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5200-A151-485B-98EF-6D91A64B4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892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14E9-671D-4D0C-AFDC-92B3ED2F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A67C-38FE-45AF-9262-21EAE85E9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1B81-C117-41F4-9A23-3EB40D8E8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6290-2D71-4BF4-B808-66AD878B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BB0D-6A1B-4DE2-A31C-FE7C2F4E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502E-EFB3-4601-8045-7E5C0344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BD84-91BE-498A-8603-6472EF77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56F9-344E-463C-BB49-C65AF203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5345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9F7A-B9B6-4417-A8F4-EA122781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9AAE9-7B6F-4308-97D5-0FF6BB90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95C9-D78A-45D9-BA4D-EB404F19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A103-40CC-47BD-AE56-2599AE4C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F9F5-EDE8-4CF6-A14C-F9BA816C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892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4FE9-E964-4F7A-9341-4EB2FE05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99A6-3DF4-4DEB-902A-165EAE65A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A9C4-BCE1-4935-B457-53482BCB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F715-3303-4F53-BBDD-881AFC8C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AB8C-AE06-4DB1-A856-A1A4A049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A763-1D74-4B08-AA21-3250F152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5345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0CD9-E8F4-4F59-BC81-206B2B6F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45F8-B9E7-4085-B001-D5B2FED8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4F60-DA8D-44FF-B331-4A478BAD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26D1-43DA-47CB-B3A5-CFBCA41B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7524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572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Times New Roman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2-</a:t>
            </a:r>
            <a:fld id="{C0358E89-D820-496D-9D64-B164F3A92F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7524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Times New Roman"/>
              </a:rPr>
              <a:t>Parallel Proces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1-</a:t>
            </a:r>
            <a:fld id="{A6B3B53D-DB2E-4289-9009-6CC9FD94C6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9.xml"/><Relationship Id="rId3" Type="http://schemas.openxmlformats.org/officeDocument/2006/relationships/slide" Target="slide38.xm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00"/>
                </a:solidFill>
                <a:latin typeface="굴림"/>
                <a:ea typeface="굴림"/>
              </a:rPr>
              <a:t>제</a:t>
            </a:r>
            <a:r>
              <a:rPr b="1" lang="en-US" sz="3200" spc="-1" strike="noStrike">
                <a:solidFill>
                  <a:srgbClr val="006600"/>
                </a:solidFill>
                <a:latin typeface="굴림"/>
                <a:ea typeface="굴림"/>
              </a:rPr>
              <a:t>2</a:t>
            </a:r>
            <a:r>
              <a:rPr b="1" lang="ko-KR" sz="3200" spc="-1" strike="noStrike">
                <a:solidFill>
                  <a:srgbClr val="006600"/>
                </a:solidFill>
                <a:latin typeface="굴림"/>
                <a:ea typeface="굴림"/>
              </a:rPr>
              <a:t>장</a:t>
            </a:r>
            <a:r>
              <a:rPr b="1" lang="en-US" sz="3200" spc="-1" strike="noStrike">
                <a:solidFill>
                  <a:srgbClr val="006600"/>
                </a:solidFill>
                <a:latin typeface="굴림"/>
                <a:ea typeface="굴림"/>
              </a:rPr>
              <a:t> </a:t>
            </a:r>
            <a:r>
              <a:rPr b="1" lang="ko-KR" sz="3200" spc="-1" strike="noStrike">
                <a:solidFill>
                  <a:srgbClr val="006600"/>
                </a:solidFill>
                <a:latin typeface="굴림"/>
                <a:ea typeface="굴림"/>
              </a:rPr>
              <a:t>병렬처리를 위한 하드웨어 기술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43200" y="3124080"/>
            <a:ext cx="4186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2.1 </a:t>
            </a:r>
            <a:r>
              <a:rPr b="1" lang="ko-KR" sz="2800" spc="-1" strike="noStrike" u="sng">
                <a:solidFill>
                  <a:srgbClr val="0066ff"/>
                </a:solidFill>
                <a:uFillTx/>
                <a:latin typeface="굴림"/>
                <a:hlinkClick r:id="rId1" action="ppaction://hlinksldjump"/>
              </a:rPr>
              <a:t>시스템 구조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2.2 </a:t>
            </a:r>
            <a:r>
              <a:rPr b="1" lang="ko-KR" sz="2800" spc="-1" strike="noStrike" u="sng">
                <a:solidFill>
                  <a:srgbClr val="0066ff"/>
                </a:solidFill>
                <a:uFillTx/>
                <a:latin typeface="굴림"/>
                <a:hlinkClick r:id="rId2" action="ppaction://hlinksldjump"/>
              </a:rPr>
              <a:t>프로세서 구조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2.3 </a:t>
            </a:r>
            <a:r>
              <a:rPr b="1" lang="ko-KR" sz="2800" spc="-1" strike="noStrike" u="sng">
                <a:solidFill>
                  <a:srgbClr val="0066ff"/>
                </a:solidFill>
                <a:uFillTx/>
                <a:latin typeface="굴림"/>
                <a:hlinkClick r:id="rId3" action="ppaction://hlinksldjump"/>
              </a:rPr>
              <a:t>기억장치시스템 구조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52BBDC9D-8E11-4076-86E9-0BDB5B9856AD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Comic Sans MS"/>
              </a:rPr>
              <a:t>Shared-memory multiprocessor</a:t>
            </a:r>
            <a:r>
              <a:rPr b="0" lang="ko-KR" sz="2200" spc="-1" strike="noStrike" u="sng">
                <a:solidFill>
                  <a:srgbClr val="0000ff"/>
                </a:solidFill>
                <a:uFillTx/>
                <a:latin typeface="Comic Sans MS"/>
              </a:rPr>
              <a:t>를 위한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omic Sans MS"/>
              </a:rPr>
              <a:t>interconnection </a:t>
            </a:r>
            <a:r>
              <a:rPr b="0" lang="ko-KR" sz="2200" spc="-1" strike="noStrike" u="sng">
                <a:solidFill>
                  <a:srgbClr val="0000ff"/>
                </a:solidFill>
                <a:uFillTx/>
                <a:latin typeface="Comic Sans MS"/>
              </a:rPr>
              <a:t>방식</a:t>
            </a:r>
            <a:endParaRPr b="0" lang="en-US" sz="2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버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bus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크로스바 스위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crossbar switch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단계 상호연결망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multistage interconnection network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46C635FA-5EAB-42CA-9110-2318E81161F7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Shared-bus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를 이용한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multiprocessor system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24" name="Picture 10" descr="2-5"/>
          <p:cNvPicPr/>
          <p:nvPr/>
        </p:nvPicPr>
        <p:blipFill>
          <a:blip r:embed="rId1"/>
          <a:stretch/>
        </p:blipFill>
        <p:spPr>
          <a:xfrm>
            <a:off x="971640" y="1844640"/>
            <a:ext cx="720072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BC5D30E0-205C-4ADC-B297-7BEF9BF7BE88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0000ff"/>
                </a:solidFill>
                <a:uFillTx/>
                <a:latin typeface="Comic Sans MS"/>
              </a:rPr>
              <a:t>버스 구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0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533520" y="1143000"/>
            <a:ext cx="8001000" cy="46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  <a:ea typeface="굴림"/>
              </a:rPr>
              <a:t>장점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가장 간단한 연결 구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  <a:ea typeface="굴림"/>
              </a:rPr>
              <a:t>단점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버스 경합으로 인한 지연 증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  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  <a:ea typeface="굴림"/>
              </a:rPr>
              <a:t>성능저하 보완방법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버스 전송 속도 증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캐쉬 기억장치 사용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캐쉬 일관성 문제 발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버스 수 증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다중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버스 시스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(multiple-bus syste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  <a:ea typeface="굴림"/>
              </a:rPr>
              <a:t>UMA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  <a:ea typeface="굴림"/>
              </a:rPr>
              <a:t>모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AB2BA161-5AA5-40F3-A754-B647AB6505DE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층버스 구조를 가진 다중프로세서시스템의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907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NUMA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모델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3" name="Picture 1029" descr="2-6"/>
          <p:cNvPicPr/>
          <p:nvPr/>
        </p:nvPicPr>
        <p:blipFill>
          <a:blip r:embed="rId1"/>
          <a:stretch/>
        </p:blipFill>
        <p:spPr>
          <a:xfrm>
            <a:off x="1116000" y="1413000"/>
            <a:ext cx="691200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C7D41C1E-E266-44E5-9A50-E93AC4992358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Crossbar switch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를 이용한 시스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43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들과 기억장치들 사이에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ull connectivity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제공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단점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H/W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복잡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비용 증가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 수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굴림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굴림"/>
              </a:rPr>
              <a:t> 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개의 크로스바 스위치 필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8" name="Picture 9" descr="2-7"/>
          <p:cNvPicPr/>
          <p:nvPr/>
        </p:nvPicPr>
        <p:blipFill>
          <a:blip r:embed="rId1"/>
          <a:stretch/>
        </p:blipFill>
        <p:spPr>
          <a:xfrm>
            <a:off x="1476360" y="3141720"/>
            <a:ext cx="55450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8B49867F-DCD4-4BAE-8527-CE9B49C773DA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00ff"/>
                </a:solidFill>
                <a:uFillTx/>
                <a:latin typeface="Comic Sans MS"/>
              </a:rPr>
              <a:t>다단계 상호연결망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MIN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Multistage Interconnection Network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Bus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rossbar switch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중간 정도의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/W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복잡도와 성능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예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] Multistage Cube Network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3" name="Picture 9" descr="2-8"/>
          <p:cNvPicPr/>
          <p:nvPr/>
        </p:nvPicPr>
        <p:blipFill>
          <a:blip r:embed="rId1"/>
          <a:stretch/>
        </p:blipFill>
        <p:spPr>
          <a:xfrm>
            <a:off x="914400" y="2971800"/>
            <a:ext cx="6705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3FAAB4E6-1B6C-47D8-A9AE-D5F2BDC97370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다단계 상호연결망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입력단 및 출력단의 노드 수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일 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필요한 단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stage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수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m = 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각 단계의 스위칭 소자 수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s = N/2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접속 모드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8" name="Picture 6" descr="2-9"/>
          <p:cNvPicPr/>
          <p:nvPr/>
        </p:nvPicPr>
        <p:blipFill>
          <a:blip r:embed="rId1"/>
          <a:stretch/>
        </p:blipFill>
        <p:spPr>
          <a:xfrm>
            <a:off x="971640" y="4653000"/>
            <a:ext cx="730872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E095D08E-FB56-46D1-AC70-42FC463AADCB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2)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분산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-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기억장치 시스템 구조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소결합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IMD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시스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loosely-coupled MIMD syste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들이 자신의 기억장치를 별도로 가지고 있는 구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ff"/>
                </a:solidFill>
                <a:latin typeface="굴림"/>
              </a:rPr>
              <a:t>다중</a:t>
            </a:r>
            <a:r>
              <a:rPr b="1" lang="en-US" sz="2400" spc="-1" strike="noStrike">
                <a:solidFill>
                  <a:srgbClr val="0000ff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ff"/>
                </a:solidFill>
                <a:latin typeface="굴림"/>
              </a:rPr>
              <a:t>컴퓨터시스템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이라고도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부름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장단점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장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각 프로세서가 프로그램과 데이터를 지역 기억장치에 저장하므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프로세서간 통신량 감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메시지 전송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message-passing)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방식을 사용하기 때문에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통신 시간 증가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상호연결망의 예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하이퍼큐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hypercube)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4104B977-FFAB-48F6-B22F-679D89788A6A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하이퍼큐브의 기본 구조</a:t>
            </a:r>
            <a:r>
              <a:rPr b="0" lang="ko-KR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56" name="Picture 6" descr="2-10"/>
          <p:cNvPicPr/>
          <p:nvPr/>
        </p:nvPicPr>
        <p:blipFill>
          <a:blip r:embed="rId1"/>
          <a:stretch/>
        </p:blipFill>
        <p:spPr>
          <a:xfrm>
            <a:off x="1763640" y="1557360"/>
            <a:ext cx="554364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BE3F1764-7125-408F-BD35-BC729A144B5A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.2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프로세서 구조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52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병렬컴퓨터에서 사용되는 프로세서의 복잡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omplexity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는 병렬처리 단위의 크기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즉 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granularity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 의해 결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단위 작업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grain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크기와 프로세서 구조의 관계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큰 그레인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coarse-grain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복잡한 연산을 포함한 작업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복잡한 구조의 프로세서 필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작은 그레인 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fine-grain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간단한 연산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작고 간단한 구조의 프로세서 사용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5DCD6A39-221D-4B8D-9C87-A18A75F2EB53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2.1 </a:t>
            </a:r>
            <a:r>
              <a:rPr b="0" lang="ko-KR" sz="3200" spc="-1" strike="noStrike">
                <a:solidFill>
                  <a:srgbClr val="006600"/>
                </a:solidFill>
                <a:latin typeface="Comic Sans MS"/>
              </a:rPr>
              <a:t>시스템  구조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굴림"/>
              </a:rPr>
              <a:t>2.1.1 </a:t>
            </a:r>
            <a:r>
              <a:rPr b="1" lang="ko-KR" sz="2800" spc="-1" strike="noStrike">
                <a:solidFill>
                  <a:srgbClr val="3333cc"/>
                </a:solidFill>
                <a:latin typeface="굴림"/>
              </a:rPr>
              <a:t>배열 프로세서 구조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시스템 내 모든 프로세싱 요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PE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들이 하나의 제어 유니트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U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통제 하에 동기적으로 동작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주로 계산 전용 컴퓨터로 활용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PE (processing element) :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ALU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와 레지스터들로 구성되어 간단한 연산만 수행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CU (control unit)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명령어를 해독하고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그것을 실행할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PE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들을 결정하고 통제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호스트 컴퓨터 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host computer)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프로그램을 컴파일하고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CU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로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download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시키는 외부 범용 컴퓨터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42317DDA-ED56-4082-A1A6-2619160378E0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그레인 크기에 따른 프로세서 구조의 특성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그레인 크기에 따른 병렬성의 분류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미세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그레인 병렬성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fine-grain parallelis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중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그레인 병렬성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medium-grain parallelis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큰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그레인 병렬성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oarse-grain parallelis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11663B62-2752-4198-8CFE-B28F03F05338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미세 그레인 병렬처리를 위한 프로세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프로그램을 가장 작은 단위로 분할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고급언어 프로그램의 한 문장</a:t>
            </a: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,  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어셈블리 명령어</a:t>
            </a: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혹은 산술</a:t>
            </a: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-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논리 연산 단위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간단한 프로세서 구조 필요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많은 프로세서간 통신량 발생 </a:t>
            </a:r>
            <a:r>
              <a:rPr b="1" lang="ko-K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고속 상호연결망 필요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미세 그레인 병렬성을 이용한 시스템의 예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51"/>
              </a:spcBef>
              <a:buClr>
                <a:srgbClr val="00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굴림"/>
              </a:rPr>
              <a:t>Thinking Machine</a:t>
            </a:r>
            <a:r>
              <a:rPr b="1" lang="ko-KR" sz="1800" spc="-1" strike="noStrike">
                <a:solidFill>
                  <a:srgbClr val="009900"/>
                </a:solidFill>
                <a:latin typeface="굴림"/>
              </a:rPr>
              <a:t>사의 </a:t>
            </a:r>
            <a:r>
              <a:rPr b="1" lang="en-US" sz="1800" spc="-1" strike="noStrike">
                <a:solidFill>
                  <a:srgbClr val="009900"/>
                </a:solidFill>
                <a:latin typeface="굴림"/>
              </a:rPr>
              <a:t>CM-1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의 병렬 프로세서 유니트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유니트 당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024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의 프로세서 모듈로 구성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각 프로세서 모듈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6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E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억장치 및 라우터 등으로 구성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E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64K (65,536)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51"/>
              </a:spcBef>
              <a:buClr>
                <a:srgbClr val="00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굴림"/>
              </a:rPr>
              <a:t>MIT</a:t>
            </a:r>
            <a:r>
              <a:rPr b="1" lang="ko-KR" sz="1800" spc="-1" strike="noStrike">
                <a:solidFill>
                  <a:srgbClr val="009900"/>
                </a:solidFill>
                <a:latin typeface="굴림"/>
              </a:rPr>
              <a:t>의 </a:t>
            </a:r>
            <a:r>
              <a:rPr b="1" lang="en-US" sz="1800" spc="-1" strike="noStrike">
                <a:solidFill>
                  <a:srgbClr val="009900"/>
                </a:solidFill>
                <a:latin typeface="굴림"/>
              </a:rPr>
              <a:t>J-machine, STARAN </a:t>
            </a:r>
            <a:r>
              <a:rPr b="1" lang="ko-KR" sz="1800" spc="-1" strike="noStrike">
                <a:solidFill>
                  <a:srgbClr val="009900"/>
                </a:solidFill>
                <a:latin typeface="굴림"/>
              </a:rPr>
              <a:t>시스템</a:t>
            </a:r>
            <a:r>
              <a:rPr b="1" lang="en-US" sz="1800" spc="-1" strike="noStrike">
                <a:solidFill>
                  <a:srgbClr val="009900"/>
                </a:solidFill>
                <a:latin typeface="굴림"/>
              </a:rPr>
              <a:t>, MPP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등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E42962FD-6EF8-43A8-9ED6-6A8ADFF8EDC2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CM-1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시스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72" name="Picture 4" descr="fig2-15a"/>
          <p:cNvPicPr/>
          <p:nvPr/>
        </p:nvPicPr>
        <p:blipFill>
          <a:blip r:embed="rId1"/>
          <a:stretch/>
        </p:blipFill>
        <p:spPr>
          <a:xfrm>
            <a:off x="1981080" y="990720"/>
            <a:ext cx="5216760" cy="54864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EABFA475-4374-4C6B-AE84-54FD9BFB50A8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CM-1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프로세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77" name="Picture 4" descr="fig2-15b"/>
          <p:cNvPicPr/>
          <p:nvPr/>
        </p:nvPicPr>
        <p:blipFill>
          <a:blip r:embed="rId1"/>
          <a:stretch/>
        </p:blipFill>
        <p:spPr>
          <a:xfrm>
            <a:off x="2057400" y="990720"/>
            <a:ext cx="5133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8709B263-15D5-4F25-BB7B-6FC45B29254C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큰 그레인 병렬처리를 위한 프로세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1267920"/>
            <a:ext cx="8305560" cy="52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많은 계산을 필요로 하는 작업 단위의 병렬처리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]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벡터 혹은 매트릭스 계산을 위한 전체 반복 루프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고속 벡터 계산을 위한 파이프라인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ALU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필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적은 수의 크고 복잡한 프로세서들로 구성된 슈퍼컴퓨터 사용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개 미만의 고성능 프로세서들로 구성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RAY Y-MP : 16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개의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RAY-1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들로 구성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A82F8F6A-9EB0-4846-BEF7-5841613FF512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CRAY-1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내부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85" name="Picture 6" descr="fig2-16"/>
          <p:cNvPicPr/>
          <p:nvPr/>
        </p:nvPicPr>
        <p:blipFill>
          <a:blip r:embed="rId1"/>
          <a:stretch/>
        </p:blipFill>
        <p:spPr>
          <a:xfrm>
            <a:off x="2411280" y="1125360"/>
            <a:ext cx="46418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257542B7-215A-492C-A467-FF720E074D7F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중간 그레인 병렬처리를 위한 프로세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미세 및 큰 그레인의 중간 크기로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반복 계산 루프의 내부 루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다중 사용자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multi -user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시스템의 한 작업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job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이나 프로세스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process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단위의 병렬처리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PU : 32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비트 혹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64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비트 마이크로프로세서 사용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수십 혹은 수백 개의 프로세서들로 이루어진 다중프로세서시스템으로 처리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수천 개의 프로세서들을 가진 대규모 병렬처리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MPP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구조로 발전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사례 시스템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] SGI  Origin 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시스템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, HP 9000 SuperDome, Intel iPSC 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시스템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등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8AD04DF5-9D92-48A4-A3C4-AEB0788C1DF1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.2.2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슈퍼스칼라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, VLIW,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슈퍼파이프라인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1341360"/>
            <a:ext cx="830556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 속도 향상을 위하여 각 명령어 실행 시간을 한 사이클 이하로 줄이기 위한 시도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대표적인 방식들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슈퍼스칼라 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superscalar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VLIW(Very Long Instruction Word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슈퍼파이프라인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superpipeline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F33BF907-36ED-42B5-8DE7-AC43ACF09F47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1)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슈퍼스칼라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superscalar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 내에 파이프라인 된 기능 유니트를 여러 개 포함시켜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매 사이클 마다 한 개 이상의 명령어들이 동시에 실행되게 하는 기술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8" name="Picture 11" descr="2-13"/>
          <p:cNvPicPr/>
          <p:nvPr/>
        </p:nvPicPr>
        <p:blipFill>
          <a:blip r:embed="rId1"/>
          <a:stretch/>
        </p:blipFill>
        <p:spPr>
          <a:xfrm>
            <a:off x="1835280" y="2852640"/>
            <a:ext cx="496728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EFF14077-A74B-4F19-91C6-70A9F7A4D184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6600"/>
                </a:solidFill>
                <a:uFillTx/>
                <a:latin typeface="Comic Sans MS"/>
              </a:rPr>
              <a:t>슈퍼스칼라 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6600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효율 향상을 위한 조건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동시에 실행하는 명령어들 간에 데이터 의존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data dependency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이 존재하지 않아야 한다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속도 향상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k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단계 수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N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명령어 수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m 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슈퍼스칼라의 정도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degree of superscalar) =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능 유니트의 수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m = 1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인 경우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명령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의 실행 시간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 T(1, 1) = k + N – 1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m = m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인 경우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명령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의 실행 시간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T(m, 1) = k + (N - m) / m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N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∞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명령어 수가 많아지면 속도 향상은 기능 유니트의 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m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접근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최신 프로세서들은 대부분 슈퍼스칼라 구조를 가지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m = 6~8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로 증가되는 경향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1523880" y="4191120"/>
                <a:ext cx="464832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1,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2C16C076-D719-4FAF-9A53-1BF306411A69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배열 프로세서의 기본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91" name="Picture 5" descr="2-1"/>
          <p:cNvPicPr/>
          <p:nvPr/>
        </p:nvPicPr>
        <p:blipFill>
          <a:blip r:embed="rId1"/>
          <a:stretch/>
        </p:blipFill>
        <p:spPr>
          <a:xfrm>
            <a:off x="1187280" y="1413000"/>
            <a:ext cx="69343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834DB6E8-8BCB-4148-B16B-9876E941CE7F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펜티엄 프로세서의 슈퍼스칼라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207" name="Picture 4" descr="fig2-18"/>
          <p:cNvPicPr/>
          <p:nvPr/>
        </p:nvPicPr>
        <p:blipFill>
          <a:blip r:embed="rId1"/>
          <a:stretch/>
        </p:blipFill>
        <p:spPr>
          <a:xfrm>
            <a:off x="1828800" y="1219320"/>
            <a:ext cx="50306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C417769E-20B6-45B9-8C55-EC1D85203EBD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2) VLIW (Very Long Instruction Word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동시에 실행 가능한 명령어들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연산들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을 하나의 긴 명령어로 재배열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통합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하여 동시 처리하는 기술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2" name="Picture 9" descr="fig2-19"/>
          <p:cNvPicPr/>
          <p:nvPr/>
        </p:nvPicPr>
        <p:blipFill>
          <a:blip r:embed="rId1"/>
          <a:stretch/>
        </p:blipFill>
        <p:spPr>
          <a:xfrm>
            <a:off x="2209680" y="2514600"/>
            <a:ext cx="473256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6857C47D-FA8D-4B3B-8623-8DB0996C4BC1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VLIW 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프로세서의 실행 시간도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216" name="Picture 5" descr="2-16"/>
          <p:cNvPicPr/>
          <p:nvPr/>
        </p:nvPicPr>
        <p:blipFill>
          <a:blip r:embed="rId1"/>
          <a:stretch/>
        </p:blipFill>
        <p:spPr>
          <a:xfrm>
            <a:off x="1447920" y="1752480"/>
            <a:ext cx="63244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C4E2AA09-1A90-4A2C-9758-AE52CAF6E468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VLIW 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하나의 명령어 내에 포함시킬 수 있는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동시 실행 가능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연산들을 어느 정도 찾을 수 있는지가 효율을 결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슈퍼스칼라와의 차이점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명령어 코드가 길지만 하나로 취급되기 때문에 인출과 해독은 하나의 회로에 의해 이루어지고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각 연산의 실행 사이클만 여러 개의 유니트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ALU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들로 나누어져 동시에 처리된다는 점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예</a:t>
            </a: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]  TRACE-7 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시스템 </a:t>
            </a: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: 7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개의 기능 유니트</a:t>
            </a: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, 256-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비트 명령어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TRACE-28 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시스템 </a:t>
            </a: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: 28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개의 기능 유니트</a:t>
            </a: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, 1024-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비트 명령어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8F06340D-C446-41B4-9F1D-62C2BBF6C4F3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3)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슈퍼파이프라인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superpipeline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7777080" cy="535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파이프라인의 클럭 사이클 시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lock cycle time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을 줄이는 방식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슈퍼파이프라이닝의 정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degree of superpipeline) = 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능 유니트의 클럭 사이클 시간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=  1/n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] n = 2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인 경우의 프로세서 실행 시간도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5" name="Picture 11" descr="2-17"/>
          <p:cNvPicPr/>
          <p:nvPr/>
        </p:nvPicPr>
        <p:blipFill>
          <a:blip r:embed="rId1"/>
          <a:stretch/>
        </p:blipFill>
        <p:spPr>
          <a:xfrm>
            <a:off x="755640" y="4221000"/>
            <a:ext cx="748836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7B5AEEE2-8E02-425B-8F83-6329D4691D62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슈퍼파이프라인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속도 향상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k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계 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N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명령어 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슈퍼파이프라이닝의 정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클록 사이클의 분할도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 = 1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인 경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명령어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개의 실행 시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T(1, 1) = k + N – 1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 = n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인 경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명령어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개의 실행 시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T(1, n) = k + (1/n) (N -1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∞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명령어 수의 많아지면 따라 속도 향상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에 접근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] CDC 7600, CRAY-1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정술 산술 유니트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n = 3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5"/>
              <p:cNvSpPr txBox="1"/>
              <p:nvPr/>
            </p:nvSpPr>
            <p:spPr>
              <a:xfrm>
                <a:off x="1905120" y="3733920"/>
                <a:ext cx="43434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1,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F6D5E268-30EE-4ABB-B79B-58CDEC49EE5A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Superpipelined Superscalar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 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슈퍼파이프라인과 슈퍼스칼라가 결합된 구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N → ∞ ,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속도 향상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p = mn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13"/>
              <p:cNvSpPr txBox="1"/>
              <p:nvPr/>
            </p:nvSpPr>
            <p:spPr>
              <a:xfrm>
                <a:off x="1143000" y="1828800"/>
                <a:ext cx="52578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1,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36" name="Picture 14" descr="2-18"/>
          <p:cNvPicPr/>
          <p:nvPr/>
        </p:nvPicPr>
        <p:blipFill>
          <a:blip r:embed="rId1"/>
          <a:stretch/>
        </p:blipFill>
        <p:spPr>
          <a:xfrm>
            <a:off x="1676520" y="3809880"/>
            <a:ext cx="502920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495C1AA8-230A-482B-853B-ACAF940A5914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첨단 프로세서 구조의 문제점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슈퍼스칼라 및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VLIW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동시 실행 가능한 명령어 수가 충분하지 않는 경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즉 명령어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수준의 병렬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instruction-level parallelism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이 높지 않으면 하드웨어 이용률이 낮아져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하는 정도의 성능을 얻기 어려움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슈퍼파이프라인 구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고속의 부품들로 구성되는 스위칭 메커니즘을 구현할 수 있어야 함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E5389B10-0248-4C66-8AC5-DD8125CB6BC1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305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2.3 </a:t>
            </a:r>
            <a:r>
              <a:rPr b="0" lang="ko-KR" sz="3200" spc="-1" strike="noStrike">
                <a:solidFill>
                  <a:srgbClr val="0000ff"/>
                </a:solidFill>
                <a:latin typeface="Comic Sans MS"/>
              </a:rPr>
              <a:t>기억장치 시스템 구조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196640"/>
            <a:ext cx="853416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로 인한 병렬컴퓨터시스템의 성능 저하 요인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는 프로세서에 비하여 속도가 현저히 느림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충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memory conflict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 의한 지연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공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구조를 가진 병렬컴퓨터에서 여러 개의 프로세서들이 동시에 같은 기억장치 모듈을 액세스하는 경우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캐쉬 기억장치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cache memory) 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및 기억장치 인터리빙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memory interleaving)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방식을 사용하여 성능 개선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80968097-352E-4950-B9DD-008DF5893EAE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.3.1 Cache memory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와 주기억장치간의 속도 차이를 보완하여 프로세서의 대기 시간을 최소화 시키도록 프로세서와 주기억장치 사이에 위치시키는  고속 반도체 기억장치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속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기억장치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보조기억장치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비용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기억장치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보조기억장치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용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l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기억장치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l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보조기억장치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9" name="Picture 4" descr="fig2-23"/>
          <p:cNvPicPr/>
          <p:nvPr/>
        </p:nvPicPr>
        <p:blipFill>
          <a:blip r:embed="rId1"/>
          <a:stretch/>
        </p:blipFill>
        <p:spPr>
          <a:xfrm>
            <a:off x="1523880" y="4876920"/>
            <a:ext cx="5856480" cy="120960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5"/>
          <p:cNvSpPr/>
          <p:nvPr/>
        </p:nvSpPr>
        <p:spPr>
          <a:xfrm>
            <a:off x="6629400" y="4952880"/>
            <a:ext cx="1066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8E6D0CAD-5188-44D4-B573-EF179CCD1B98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PE</a:t>
            </a:r>
            <a:r>
              <a:rPr b="0" lang="ko-KR" sz="2800" spc="-1" strike="noStrike" u="sng">
                <a:solidFill>
                  <a:srgbClr val="0000ff"/>
                </a:solidFill>
                <a:uFillTx/>
                <a:latin typeface="Comic Sans MS"/>
              </a:rPr>
              <a:t>의 내부 구조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내부 구성요소들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Ri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내부 레지스터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Ai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주소 레지스터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Ii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인덱스 레지스터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Ti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데이터 전송 레지스터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Fi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플래그 레지스터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= 1 : PE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가 계산 에 참여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= 0 : PE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가 대기 상태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ALU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6" name="Picture 1028" descr="2-2"/>
          <p:cNvPicPr/>
          <p:nvPr/>
        </p:nvPicPr>
        <p:blipFill>
          <a:blip r:embed="rId1"/>
          <a:stretch/>
        </p:blipFill>
        <p:spPr>
          <a:xfrm>
            <a:off x="5003640" y="1268280"/>
            <a:ext cx="434340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A066D3B8-BCFD-4E34-8B56-C887FF232A45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6600"/>
                </a:solidFill>
                <a:uFillTx/>
                <a:latin typeface="Comic Sans MS"/>
              </a:rPr>
              <a:t>평균 기억장치 액세스 시간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 적중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ache hit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프로세서가 원하는 데이터가 캐쉬 내에 있을 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적중률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hit ratio) h =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프로그램과 데이터의 지역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locality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에 크게 의존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 미스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ache miss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프로세서가 원하는 데이터가 캐쉬에 없을 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미스율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(1-h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평균 기억장치 액세스 시간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굴림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=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 액세스 시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굴림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기억장치 액세스 시간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3809880" y="2209680"/>
                <a:ext cx="3048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원하는</m:t>
                        </m:r>
                        <m:r>
                          <m:rPr>
                            <m:lit/>
                            <m:nor/>
                          </m:rPr>
                          <m:t xml:space="preserve">데이터가</m:t>
                        </m:r>
                        <m:r>
                          <m:rPr>
                            <m:lit/>
                            <m:nor/>
                          </m:rPr>
                          <m:t xml:space="preserve">캐쉬에</m:t>
                        </m:r>
                        <m:r>
                          <m:rPr>
                            <m:lit/>
                            <m:nor/>
                          </m:rPr>
                          <m:t xml:space="preserve">있는</m:t>
                        </m:r>
                        <m:r>
                          <m:rPr>
                            <m:lit/>
                            <m:nor/>
                          </m:rPr>
                          <m:t xml:space="preserve">횟수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전체</m:t>
                        </m:r>
                        <m:r>
                          <m:rPr>
                            <m:lit/>
                            <m:nor/>
                          </m:rPr>
                          <m:t xml:space="preserve">기억장치</m:t>
                        </m:r>
                        <m:r>
                          <m:rPr>
                            <m:lit/>
                            <m:nor/>
                          </m:rPr>
                          <m:t xml:space="preserve">액세스</m:t>
                        </m:r>
                        <m:r>
                          <m:rPr>
                            <m:lit/>
                            <m:nor/>
                          </m:rPr>
                          <m:t xml:space="preserve">횟수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5"/>
              <p:cNvSpPr txBox="1"/>
              <p:nvPr/>
            </p:nvSpPr>
            <p:spPr>
              <a:xfrm>
                <a:off x="4343400" y="5029200"/>
                <a:ext cx="32004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226CD077-447A-424D-911B-D29D5C34E5F2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00ff"/>
                </a:solidFill>
                <a:uFillTx/>
                <a:latin typeface="Comic Sans MS"/>
              </a:rPr>
              <a:t>캐쉬의 최적 설계 목표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 적중률의 극대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 액세스 시간의 최소와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 실패에 따른 지연시간의 최소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주기억장치와 캐쉬간의 데이터 일관성 유지 및 그에 따른 오버헤드의 최소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7E30FFCB-1769-4FA6-90BC-2BD150F1B1F1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00ff"/>
                </a:solidFill>
                <a:uFillTx/>
                <a:latin typeface="Comic Sans MS"/>
              </a:rPr>
              <a:t>캐쉬 설계를 위한 고려 사항들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의 크기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ache size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용량 증가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적중률 향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비용 상승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최적 캐쉬의 크기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1 ~ 128 Kword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인출 방식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fetch algorith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요구 인출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demand fetch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선인출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prefetch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필요한 정보를 인출할 때 근접한 위치에 있는 정보들을 함께 인출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지역성이 높은 경우에 효율적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최적 블록의 크기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4 ~ 8 word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24AB40C1-DE17-4E8E-94FB-CE6B0BBE1494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캐쉬 설계를 위한 고려 사항들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사상 방식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mapping method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직접 사상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direct mapping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간단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동일한 그룹에 속한 블록들이 빈번히 액세스 될 경우에 캐쉬 실패율이 증가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완전 연관 사상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fully associative mapping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높은 유연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flexibility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모든 캐쉬 슬롯들의 태그 번호들을 고속 검색하기 위한 복잡한 회로 필요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집합 연관 사상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set associative mapping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집합의 크기는 캐쉬 적중률에 영향을 주는 요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최적 집합 크기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2-way, 4-way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5DC3E126-FC4F-45B1-BE0B-1A31F4A969B5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캐쉬 설계를 위한 고려 사항들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4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교체 방식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replacement algorith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LRU (Least Recently Used)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가장 높은 적중률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FIFO (First In First Out)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원형 버퍼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circular buffer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로 구현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LFU (Least Frequently Used)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수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counter)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Random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92AA9C9C-7A50-4DB1-B077-37100C65E856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캐쉬 설계를 위한 고려 사항들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5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쓰기 정책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write policy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Write through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에서 수정된 데이터를 주기억장치에도 갱신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액세스 횟수가 많아져서 병목 현상을 야기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Write back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데이터 수정은 캐쉬에서만 이루어짐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기억장치의 일부 데이터들 무효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돌발적 사고 발생시 데이터 분실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77" name="Picture 4" descr="2-20"/>
          <p:cNvPicPr/>
          <p:nvPr/>
        </p:nvPicPr>
        <p:blipFill>
          <a:blip r:embed="rId1"/>
          <a:stretch/>
        </p:blipFill>
        <p:spPr>
          <a:xfrm>
            <a:off x="1905120" y="3886200"/>
            <a:ext cx="495288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6B37C177-AA5F-4A6F-AD84-EC42ED9BF327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0000ff"/>
                </a:solidFill>
                <a:uFillTx/>
                <a:latin typeface="Comic Sans MS"/>
              </a:rPr>
              <a:t>캐쉬 설계를 위한 고려 사항들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0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ultiprocessor system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서의 데이터 일관성 문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data consistency problem)  </a:t>
            </a: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--- 4.4</a:t>
            </a: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절 참조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2" name="Picture 4" descr="2-21"/>
          <p:cNvPicPr/>
          <p:nvPr/>
        </p:nvPicPr>
        <p:blipFill>
          <a:blip r:embed="rId1"/>
          <a:stretch/>
        </p:blipFill>
        <p:spPr>
          <a:xfrm>
            <a:off x="2590920" y="2286000"/>
            <a:ext cx="43434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413D5C9A-F216-4EA3-AC0C-F859A4629148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947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6)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다중 캐쉬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multiple cache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4751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계층적 캐쉬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hierarchical cache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2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레벨 혹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3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레벨 캐쉬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차 캐쉬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2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차 캐쉬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3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차 캐쉬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계층적으로 설치</a:t>
            </a:r>
            <a:br>
              <a:rPr sz="2400"/>
            </a:br>
            <a:r>
              <a:rPr b="1" lang="ko-KR" sz="2000" spc="-1" strike="noStrike">
                <a:solidFill>
                  <a:srgbClr val="000000"/>
                </a:solidFill>
                <a:latin typeface="서울도시"/>
              </a:rPr>
              <a:t>용량</a:t>
            </a:r>
            <a:r>
              <a:rPr b="1" lang="en-US" sz="2000" spc="-1" strike="noStrike">
                <a:solidFill>
                  <a:srgbClr val="000000"/>
                </a:solidFill>
                <a:latin typeface="서울도시"/>
              </a:rPr>
              <a:t>: L1 &lt; L2 &lt; L3 &lt; M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ﵵ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온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칩 캐쉬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on-chip cache):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CPU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칩 내부에 설치되는 캐쉬로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액세스 시간이 가장 짧다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7" name="Picture 4" descr="2-22"/>
          <p:cNvPicPr/>
          <p:nvPr/>
        </p:nvPicPr>
        <p:blipFill>
          <a:blip r:embed="rId1"/>
          <a:stretch/>
        </p:blipFill>
        <p:spPr>
          <a:xfrm>
            <a:off x="5724360" y="2133720"/>
            <a:ext cx="23623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9D10726A-CFCB-4410-B85A-5E0581C83DDD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다중 캐쉬의 액세스 시간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omic Sans MS"/>
              </a:rPr>
              <a:t>(2003</a:t>
            </a:r>
            <a:r>
              <a:rPr b="0" lang="ko-KR" sz="1800" spc="-1" strike="noStrike" u="sng">
                <a:solidFill>
                  <a:srgbClr val="0000ff"/>
                </a:solidFill>
                <a:uFillTx/>
                <a:latin typeface="Comic Sans MS"/>
              </a:rPr>
              <a:t>년 기준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1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]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펜티엄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IV: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온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칩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L1)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데이터 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1 n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온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칩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L1)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명령어 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2 n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L2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3.5 ns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]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아이테니움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L1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온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칩 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2 n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L2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온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칩 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6 n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L3 (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외부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21 ns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50FFC85B-721F-428A-A186-3E0086ECEE14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다중 캐쉬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계층적 캐쉬를 가진 기억장치시스템의 액세스 시간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1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차 캐쉬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2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차 캐쉬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적중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적중률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L1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액세스 시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L2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액세스 시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m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주기억장치의 액세스 시간이라 할 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</a:t>
            </a:r>
            <a:br>
              <a:rPr sz="2400"/>
            </a:br>
            <a:br>
              <a:rPr sz="2400"/>
            </a:br>
            <a:r>
              <a:rPr b="1" lang="ko-KR" sz="2400" spc="-1" strike="noStrike" u="sng">
                <a:solidFill>
                  <a:srgbClr val="009900"/>
                </a:solidFill>
                <a:uFillTx/>
                <a:latin typeface="굴림"/>
              </a:rPr>
              <a:t>평균 기억장치 액세스 시간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a =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x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L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+ (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-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 x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L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+ (1 -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 x Tm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3360" indent="-60336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00ff"/>
                </a:solidFill>
                <a:latin typeface="굴림"/>
              </a:rPr>
              <a:t>예제 </a:t>
            </a:r>
            <a:r>
              <a:rPr b="1" lang="en-US" sz="2400" spc="-1" strike="noStrike">
                <a:solidFill>
                  <a:srgbClr val="0000ff"/>
                </a:solidFill>
                <a:latin typeface="굴림"/>
              </a:rPr>
              <a:t>2-2] </a:t>
            </a:r>
            <a:r>
              <a:rPr b="1" lang="ko-KR" sz="2400" spc="-1" strike="noStrike">
                <a:solidFill>
                  <a:srgbClr val="0000ff"/>
                </a:solidFill>
                <a:latin typeface="굴림"/>
              </a:rPr>
              <a:t>참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06119E6F-34F0-45B9-9EFA-D5C828A7D363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배열 프로세서의 다른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00" name="Picture 5" descr="2-3"/>
          <p:cNvPicPr/>
          <p:nvPr/>
        </p:nvPicPr>
        <p:blipFill>
          <a:blip r:embed="rId1"/>
          <a:stretch/>
        </p:blipFill>
        <p:spPr>
          <a:xfrm>
            <a:off x="1143000" y="1208160"/>
            <a:ext cx="678168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B6D0C1DC-0A92-43C9-BE41-65A8A3CB8D3E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다중 캐쉬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012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분리 캐쉬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split cache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차 캐쉬가 명령어 캐쉬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instruction cache)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와 데이터 캐쉬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data cache)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로 분리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   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예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] PowerPC 620 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프로세서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0" name="Picture 4" descr="2-23"/>
          <p:cNvPicPr/>
          <p:nvPr/>
        </p:nvPicPr>
        <p:blipFill>
          <a:blip r:embed="rId1"/>
          <a:stretch/>
        </p:blipFill>
        <p:spPr>
          <a:xfrm>
            <a:off x="1476360" y="2781360"/>
            <a:ext cx="640872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EEFB7440-216E-4B38-9499-BB5D4481EA7E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6600"/>
                </a:solidFill>
                <a:uFillTx/>
                <a:latin typeface="Comic Sans MS"/>
              </a:rPr>
              <a:t>다중 캐쉬 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6600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3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레벨 캐쉬의 예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아이테니움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Itanium)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프로세서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5" name="Picture 4" descr="2-24"/>
          <p:cNvPicPr/>
          <p:nvPr/>
        </p:nvPicPr>
        <p:blipFill>
          <a:blip r:embed="rId1"/>
          <a:stretch/>
        </p:blipFill>
        <p:spPr>
          <a:xfrm>
            <a:off x="971640" y="2205000"/>
            <a:ext cx="676728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FAB97A0A-518F-470E-96B5-B4779DFCFE0C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2.3.2 </a:t>
            </a:r>
            <a:r>
              <a:rPr b="1" lang="ko-KR" sz="2800" spc="-1" strike="noStrike">
                <a:solidFill>
                  <a:srgbClr val="0000ff"/>
                </a:solidFill>
                <a:latin typeface="Comic Sans MS"/>
              </a:rPr>
              <a:t>기억장치 인터리빙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(memory interleaving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hared-memory system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emory conflict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 의한 병목 현상을 완화시키기 위한 방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를 여러 개의 독립적인 모듈로 나누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주소지정 방식을 적절히 조정함으로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순차적으로 배열된 명령어들 또는 데이터들이 기억장치 모듈들에 분산 저장되도록 함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병렬 액세스 가능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구성 방식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상위 인터리빙 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high-order interleaving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하위 인터리빙 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low-order interleaving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혼합 인터리빙 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high-low-order interleaving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549AE126-B583-4FEF-AAC7-4275814AC8DC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454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가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) H</a:t>
            </a:r>
            <a:r>
              <a:rPr b="0" lang="en-US" sz="3100" spc="-1" strike="noStrike">
                <a:solidFill>
                  <a:srgbClr val="0000ff"/>
                </a:solidFill>
                <a:latin typeface="Comic Sans MS"/>
              </a:rPr>
              <a:t>igh-order interleaving</a:t>
            </a:r>
            <a:endParaRPr b="0" lang="en-US" sz="31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000" y="764640"/>
            <a:ext cx="8389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주소를 모듈들에 순차적으로 지정하는 방식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설계 방법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주소의 상위 비트들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모듈 선택 신호로 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주소의 하위 비트들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모듈내 기억 장소의 선택에 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14" name="Picture 13" descr="fig2-26"/>
          <p:cNvPicPr/>
          <p:nvPr/>
        </p:nvPicPr>
        <p:blipFill>
          <a:blip r:embed="rId1"/>
          <a:stretch/>
        </p:blipFill>
        <p:spPr>
          <a:xfrm>
            <a:off x="2050920" y="3156120"/>
            <a:ext cx="49039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4153ADD4-3296-48F2-A738-0E5DB22D795E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High-order interleaving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예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4 KByte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1 Kbyte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모듈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4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개로구성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주소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= 12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비트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19" name="Picture 4" descr="fig2-27"/>
          <p:cNvPicPr/>
          <p:nvPr/>
        </p:nvPicPr>
        <p:blipFill>
          <a:blip r:embed="rId1"/>
          <a:stretch/>
        </p:blipFill>
        <p:spPr>
          <a:xfrm>
            <a:off x="2340000" y="2276640"/>
            <a:ext cx="51483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EC2EF419-4D56-44EB-A1FB-741D7D559762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2400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나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) Low</a:t>
            </a:r>
            <a:r>
              <a:rPr b="0" lang="en-US" sz="3100" spc="-1" strike="noStrike">
                <a:solidFill>
                  <a:srgbClr val="0000ff"/>
                </a:solidFill>
                <a:latin typeface="Comic Sans MS"/>
              </a:rPr>
              <a:t>-order interleaving</a:t>
            </a:r>
            <a:endParaRPr b="0" lang="en-US" sz="31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주소가 모듈 단위로 인터리빙 되는 방식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설계 방법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기억장치 주소의 하위 비트들 </a:t>
            </a: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모듈 선택 신호로 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기억장치 주소의 상위 비트들 </a:t>
            </a: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모듈내 기억 장소의 선택에 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24" name="Picture 9" descr="fig2-24"/>
          <p:cNvPicPr/>
          <p:nvPr/>
        </p:nvPicPr>
        <p:blipFill>
          <a:blip r:embed="rId1"/>
          <a:stretch/>
        </p:blipFill>
        <p:spPr>
          <a:xfrm>
            <a:off x="2195640" y="3141720"/>
            <a:ext cx="42480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59296480-7DB3-4552-A060-4A77A22FCA4E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Low-order interleaving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예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1 Kbyte x 4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주소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= 12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비트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29" name="Picture 4" descr="fig2-25"/>
          <p:cNvPicPr/>
          <p:nvPr/>
        </p:nvPicPr>
        <p:blipFill>
          <a:blip r:embed="rId1"/>
          <a:stretch/>
        </p:blipFill>
        <p:spPr>
          <a:xfrm>
            <a:off x="1619280" y="1773360"/>
            <a:ext cx="57974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F99BF101-50ED-4964-933C-E195D7F0093D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95280" y="380880"/>
            <a:ext cx="83678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다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) High-low</a:t>
            </a:r>
            <a:r>
              <a:rPr b="0" lang="en-US" sz="3100" spc="-1" strike="noStrike">
                <a:solidFill>
                  <a:srgbClr val="0000ff"/>
                </a:solidFill>
                <a:latin typeface="Comic Sans MS"/>
              </a:rPr>
              <a:t>-order interleaving</a:t>
            </a:r>
            <a:endParaRPr b="0" lang="en-US" sz="31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68360" y="1066320"/>
            <a:ext cx="770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뱅크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memory bank)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내부 모듈들 간에는 상위 인터리빙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외부 모듈 간에는 하위 인터리빙으로 주소지정하는 방식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억장치 뱅크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억장치 모듈들로 이루어지는 그룹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34" name="Picture 11" descr="2-29"/>
          <p:cNvPicPr/>
          <p:nvPr/>
        </p:nvPicPr>
        <p:blipFill>
          <a:blip r:embed="rId1"/>
          <a:stretch/>
        </p:blipFill>
        <p:spPr>
          <a:xfrm>
            <a:off x="1619280" y="2637000"/>
            <a:ext cx="532764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F7552C0C-A14B-47D5-B72F-F68D56AE12D3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High-low-order interleaving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예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155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 Kbyte x 4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주소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12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비트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뱅크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2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개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39" name="Picture 5" descr="2-30"/>
          <p:cNvPicPr/>
          <p:nvPr/>
        </p:nvPicPr>
        <p:blipFill>
          <a:blip r:embed="rId1"/>
          <a:stretch/>
        </p:blipFill>
        <p:spPr>
          <a:xfrm>
            <a:off x="1619280" y="1773360"/>
            <a:ext cx="576108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125FCE74-9DA4-43E9-8DC2-97FD6146585B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2400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(2) C-</a:t>
            </a:r>
            <a:r>
              <a:rPr b="1" lang="ko-KR" sz="2800" spc="-1" strike="noStrike">
                <a:solidFill>
                  <a:srgbClr val="0000ff"/>
                </a:solidFill>
                <a:latin typeface="Comic Sans MS"/>
              </a:rPr>
              <a:t>액세스 및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-</a:t>
            </a:r>
            <a:r>
              <a:rPr b="1" lang="ko-KR" sz="2800" spc="-1" strike="noStrike">
                <a:solidFill>
                  <a:srgbClr val="0000ff"/>
                </a:solidFill>
                <a:latin typeface="Comic Sans MS"/>
              </a:rPr>
              <a:t>액세스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C-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액세스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Concurrent access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각 기억장치 모듈별로 주소가 도착하면 액세스 동작을 시작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액세스 시간 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T = T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굴림"/>
              </a:rPr>
              <a:t>a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 + (M x t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굴림"/>
              </a:rPr>
              <a:t>b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굴림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액세스 시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굴림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=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버스 클럭의 주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M =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모듈의 수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44" name="Picture 7" descr="fig2-30"/>
          <p:cNvPicPr/>
          <p:nvPr/>
        </p:nvPicPr>
        <p:blipFill>
          <a:blip r:embed="rId1"/>
          <a:stretch/>
        </p:blipFill>
        <p:spPr>
          <a:xfrm>
            <a:off x="1835280" y="3454560"/>
            <a:ext cx="569268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F700C1E4-ECB2-4113-AE35-3575F90022F8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6600"/>
                </a:solidFill>
                <a:uFillTx/>
                <a:latin typeface="Comic Sans MS"/>
              </a:rPr>
              <a:t>상호연결망 </a:t>
            </a:r>
            <a:r>
              <a:rPr b="0" lang="en-US" sz="2800" spc="-1" strike="noStrike" u="sng">
                <a:solidFill>
                  <a:srgbClr val="006600"/>
                </a:solidFill>
                <a:uFillTx/>
                <a:latin typeface="Comic Sans MS"/>
              </a:rPr>
              <a:t>(Interconnection Networks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정적 네트워크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Static network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연결 구조가 고정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차원 토폴로지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선형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차원 토폴로지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원형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성형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나무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매쉬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시스토릭 배열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차원 토폴로지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완전 연결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코달 원형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큐브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동적 네트워크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Dynamic network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실행 시간 중에 연결 구조 변경 가능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주로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MIMD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시스템에 사용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72224CFC-755B-4178-9F3A-70305A3C11EF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C-</a:t>
            </a:r>
            <a:r>
              <a:rPr b="1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액세스 및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S-</a:t>
            </a:r>
            <a:r>
              <a:rPr b="1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액세스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1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53416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S-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액세스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Simultaneous access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하위 인터리빙 방식으로 구성된 기억장치 모듈들에 주소가 동시에 인가하면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모든 모듈들에서 동시에 액세스 동작이 시작되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액세스 된 데이터들은 순차적으로 전송하는 방식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연속적인 입력 데이터 흐름이 필요한 파이프라인 컴퓨터에 유용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액세스 시간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액세스와 같음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장점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동시 액세스 보장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연속적 전송 가능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burst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버스 모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057A8C1F-5AEB-44C3-AC65-CC649D658753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S-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액세스 기억장치 시스템의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352" name="Picture 4" descr="fig2-31"/>
          <p:cNvPicPr/>
          <p:nvPr/>
        </p:nvPicPr>
        <p:blipFill>
          <a:blip r:embed="rId1"/>
          <a:stretch/>
        </p:blipFill>
        <p:spPr>
          <a:xfrm>
            <a:off x="2395440" y="1125360"/>
            <a:ext cx="522468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D262F943-BC63-4EA3-BC9C-B88DDAD8DD1C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S-</a:t>
            </a:r>
            <a:r>
              <a:rPr b="0" lang="ko-KR" sz="2000" spc="-1" strike="noStrike" u="sng">
                <a:solidFill>
                  <a:srgbClr val="0000ff"/>
                </a:solidFill>
                <a:uFillTx/>
                <a:latin typeface="Comic Sans MS"/>
              </a:rPr>
              <a:t>액세스의 시간흐름도</a:t>
            </a:r>
            <a:endParaRPr b="0" lang="en-US" sz="2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560" y="1196640"/>
            <a:ext cx="772308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액세스 시간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(M </a:t>
            </a:r>
            <a:r>
              <a:rPr b="1" i="1" lang="en-US" sz="2400" spc="-1" strike="noStrike">
                <a:solidFill>
                  <a:srgbClr val="000000"/>
                </a:solidFill>
                <a:latin typeface="굴림"/>
                <a:ea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57" name="Picture 4" descr="2-33"/>
          <p:cNvPicPr/>
          <p:nvPr/>
        </p:nvPicPr>
        <p:blipFill>
          <a:blip r:embed="rId1"/>
          <a:stretch/>
        </p:blipFill>
        <p:spPr>
          <a:xfrm>
            <a:off x="1619280" y="2276640"/>
            <a:ext cx="6121440" cy="36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40DC8447-A0B1-4BCC-B3F4-674F55BC5994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6600"/>
                </a:solidFill>
                <a:uFillTx/>
                <a:latin typeface="Comic Sans MS"/>
              </a:rPr>
              <a:t>정적 상호연결 네트워크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08" name="Picture 5" descr="2-4"/>
          <p:cNvPicPr/>
          <p:nvPr/>
        </p:nvPicPr>
        <p:blipFill>
          <a:blip r:embed="rId1"/>
          <a:stretch/>
        </p:blipFill>
        <p:spPr>
          <a:xfrm>
            <a:off x="1979640" y="1052640"/>
            <a:ext cx="49291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B32BF08D-7D6B-4A93-B20F-5AE7C7D58AE9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굴림"/>
                <a:ea typeface="굴림"/>
              </a:rPr>
              <a:t>2.1.2 </a:t>
            </a:r>
            <a:r>
              <a:rPr b="1" lang="ko-KR" sz="2800" spc="-1" strike="noStrike">
                <a:solidFill>
                  <a:srgbClr val="0000ff"/>
                </a:solidFill>
                <a:latin typeface="굴림"/>
                <a:ea typeface="굴림"/>
              </a:rPr>
              <a:t>다중프로세서시스템 구조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공유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기억장치 시스템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shared-memory system)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밀결합 구조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tightly-coupled system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주기억장치가 모든 프로세서들에 의해 공유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분산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기억장치 시스템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distributed-memory system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소결합 시스템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loosely-coupled system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각 프로세서가 기억장치를 공유하지 않고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자신의 지역 기억장치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local memory)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를 별도로 소유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독립적인 컴퓨터들의 결합 형태이므로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다중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컴퓨터시스템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multiple-computer system)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라고도 부름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3A9E3E73-D211-42EC-ACED-B59A1BB3059D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(1)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Shared-memory multiprocessor architecture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4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장점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공유 데이터들이 공유 기억장치에 저장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별도의 프로세서간 통신 메커니즘의 불필요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태스크들을 프로세서들에게 균등 할당이 가능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프로세서 이용률을 극대화 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시스템 효율 향상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4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단점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프로세서간 버스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혹은 상호연결망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통신량 증가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경합으로 인한 지연 발생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공유자원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I/O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장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에 충돌 발생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상호연결망의 고속화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 기억장치의 사용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인터리빙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4T02:04:40Z</dcterms:created>
  <dc:creator/>
  <dc:description/>
  <dc:language>en-US</dc:language>
  <cp:lastModifiedBy>dwa2007</cp:lastModifiedBy>
  <dcterms:modified xsi:type="dcterms:W3CDTF">2009-06-23T07:33:05Z</dcterms:modified>
  <cp:revision>67</cp:revision>
  <dc:subject/>
  <dc:title>제2장. 병렬처리를 위한 하드웨어 기술</dc:title>
</cp:coreProperties>
</file>