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ECC-F865-40AC-9FDC-8C43FA7C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A2E-9D31-4B96-98BB-BDAF1383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EA5-1151-4856-B131-D14A40E8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1D8-F22C-4E2A-BC07-7E1E8569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CFAC-32AE-4D5A-AFC9-A231D26E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2D9E-0B4B-4E01-96F2-C7E04320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BCB7-5160-4B90-A3C4-AAF026EF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E46A-4665-4510-9B0C-A387A5FE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3EA0-E815-414C-B8DA-6F1E5592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A0AA-A884-4006-893E-1F94859A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0DD7-1DA1-4197-9FDF-F3AF170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75A-4E5D-4874-AEE9-BAA68181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753A-E06F-4FAC-A6BA-4BB74BBB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E2F-F806-41E5-AC0C-AFF0856D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DC37-CD68-4DE2-A024-1AC54D28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F14E-DE6C-4FE4-B2CB-7CB43DDD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0A46-5050-4FA6-98C6-9B3D9685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6ED-D91A-4A3F-9FB1-787B5C84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704-8F45-44A5-94DE-DF4A1033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198-5D46-4E91-B5C1-05D6420B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A28-73A4-42CE-99DD-4CD5202E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C84-BA08-441D-9822-46BB54B6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B21-69A0-4727-99B2-C18F6D2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C3A-0EBE-4D5A-A795-40E372C9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A59C-FE9F-4047-B0EC-1E127AB8C7F4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7E1A-18DA-412D-BA38-907E4F32DD3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96F3-C1C1-43CD-83F4-689B0DCA7203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495E-7168-4DC9-9F35-BFEEA97BE7F5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6BA-A716-4FC3-B159-FA6BBB043EB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038CB-CD52-4DA4-85AF-06E86A143B0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F51-DE9C-46D1-9139-2B65359AE4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48A31-C059-426A-8076-09B62E2A97A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0C6-5FA8-47AD-AA4F-3C63D02BA5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C9882-FD6E-49DE-AC82-E2C65433B03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D4D-4E9C-41C7-9F34-1CC318D4A2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475C3-3932-4E85-8F2F-47179B1E35C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3C9-CADE-4514-A8E9-C6F402A9C1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A5413-FF97-4E49-99D4-4E4084FF04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C4B-E237-4E18-894C-E7171732FF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1620C-2788-40B9-B782-2592E55FA55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BF0-61AE-4093-AEF9-F0CB73C9A5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F5C98-76A8-4645-92E2-D6AE75EF89D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122-1963-4580-A8C1-B64BBB3A78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D7AC2-38F0-4B6F-8BA4-6CCC6792602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DD8-F7F2-4400-A000-5E9697BF64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77C38-1D18-400B-8499-BF65757BD8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560-A95D-4541-A83B-8885081BF0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138E0-2ABE-4FF1-BF88-8F13F67F01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B66-A9BD-4246-8E77-856201C403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E1DE2-3A7C-42AB-919F-11050BB7C3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896-B04E-4511-8FE7-158453DB75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38F44-E57F-40BE-B9D9-28176BC5353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9B8-F531-45A2-8199-9FCFD21497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2DBD1-3498-48EE-BCE7-AA6FD0EAAA5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02C-CC20-451A-8E4B-DB3DAAF95F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054D4-2906-4612-8220-28F4D1E00EB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dwa2007</cp:lastModifiedBy>
  <cp:lastPrinted>1999-09-10T20:38:56Z</cp:lastPrinted>
  <dcterms:modified xsi:type="dcterms:W3CDTF">2009-06-23T07:32:58Z</dcterms:modified>
  <cp:revision>237</cp:revision>
  <dc:subject/>
  <dc:title>제6장 데이터 웨어하우스의 관리</dc:title>
</cp:coreProperties>
</file>