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4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70231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70236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231560" y="684360"/>
            <a:ext cx="4559400" cy="34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CE05-B0DB-4ED2-A533-5916139AF1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lcome to the first session in the Windows 2000 DNA tra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this session we will discuss building applications that “Do More” in the business tier by leveraging COM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e encourage attendees to follow a track through the full track, as each session builds upon the nex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3979800" y="8662680"/>
            <a:ext cx="30434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D27C-72D8-4A6B-B6C8-996A423C4EE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-360" y="8662680"/>
            <a:ext cx="30430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0"/>
            <a:ext cx="30430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979800" y="0"/>
            <a:ext cx="30434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0480" y="682560"/>
            <a:ext cx="4563720" cy="342288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21960" y="4330440"/>
            <a:ext cx="517860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is session will focus on using MDX to solve complex business problems using M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228240" y="4330440"/>
            <a:ext cx="6553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hould leave 10-15 minutes for questions or accept questions during the session.  Encourage the audience to stick with the remainder of this tr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Key 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:  Windows DNA is Microsoft’s strategic initiative to enable 3-tier compu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Although we believe in distributed database, we don’t feel that distributed datab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by itsel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will be sufficient to power the new generation of Web-enabled, highly distributed systems. There is a growing industry consensus that components provide the necessary means to both scale and package and distributed necessary functionality in distributed environments and on the Interne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231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229680" y="4330440"/>
            <a:ext cx="6588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Windows DNA ten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ogically partition your application into 3 t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sines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tegrated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ild components using COM as the 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everage Windows Services to deliver, connect and support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the disconnected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Design for flexible access to data - structured &amp; unstruc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536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3000" y="167652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7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1536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643000" y="3806280"/>
            <a:ext cx="2502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7360" y="228600"/>
            <a:ext cx="75628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70040" y="380628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36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70040" y="1676520"/>
            <a:ext cx="3792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7360" y="380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765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9000" indent="-41652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68400" indent="-4179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57280" indent="-4870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57280" indent="-487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newblueblank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7360" y="7430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804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685800" indent="3571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43632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517680" algn="ctr">
              <a:lnSpc>
                <a:spcPct val="90000"/>
              </a:lnSpc>
              <a:spcBef>
                <a:spcPts val="901"/>
              </a:spcBef>
              <a:buClr>
                <a:srgbClr val="fca80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5176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ewblutitle" descr=""/>
          <p:cNvPicPr/>
          <p:nvPr/>
        </p:nvPicPr>
        <p:blipFill>
          <a:blip r:embed="rId2"/>
          <a:srcRect l="985" t="4868" r="4528" b="29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19240" y="1600200"/>
            <a:ext cx="6953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ca304"/>
                </a:solidFill>
                <a:latin typeface="굴림"/>
                <a:ea typeface="굴림"/>
              </a:rPr>
              <a:t>DevDays </a:t>
            </a:r>
            <a:r>
              <a:rPr b="0" lang="en-US" sz="8800" spc="-1" strike="noStrike">
                <a:solidFill>
                  <a:srgbClr val="ffffff"/>
                </a:solidFill>
                <a:latin typeface="굴림"/>
                <a:ea typeface="굴림"/>
              </a:rPr>
              <a:t>’99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32880" y="876240"/>
            <a:ext cx="4077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38280" y="4224240"/>
            <a:ext cx="7953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ddlogo" descr=""/>
          <p:cNvPicPr/>
          <p:nvPr/>
        </p:nvPicPr>
        <p:blipFill>
          <a:blip r:embed="rId3"/>
          <a:stretch/>
        </p:blipFill>
        <p:spPr>
          <a:xfrm>
            <a:off x="5810400" y="5448240"/>
            <a:ext cx="2419200" cy="9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6360" y="3429000"/>
            <a:ext cx="7843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Demi"/>
                <a:ea typeface="굴림"/>
              </a:rPr>
              <a:t>The aim of this mission is knowledg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4880" y="1432080"/>
            <a:ext cx="0" cy="4216320"/>
          </a:xfrm>
          <a:prstGeom prst="line">
            <a:avLst/>
          </a:prstGeom>
          <a:ln w="38160">
            <a:solidFill>
              <a:srgbClr val="ffffff"/>
            </a:solidFill>
            <a:miter/>
            <a:head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27240" y="5630760"/>
            <a:ext cx="5521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84640" y="57135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Functionali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1960" y="277344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Knowled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equi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076560" y="5427360"/>
            <a:ext cx="13572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429080" y="1922400"/>
            <a:ext cx="857160" cy="350064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281560" y="1731600"/>
            <a:ext cx="2971800" cy="214200"/>
          </a:xfrm>
          <a:prstGeom prst="line">
            <a:avLst/>
          </a:prstGeom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Knowing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hat Is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6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= Multi Dimensional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Databas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해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odel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과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querying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pe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위한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E DB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지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ple provid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도 사용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OLAP Services, TM1, SAS, WhiteLight, SAP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 Servi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 분석 기능을 향상시킬 수 있는 중요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Key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Basic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ulti dimensional space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계층간 이동을 쉽게할 수 있으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 concepts of cube, dimension, level, member and cell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 대한 기본 이해가 있어야 하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It is used fo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Queries – full statements (SELECT…FRO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Business modeling – definin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Construc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519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mber 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Nelson, [1996].[Q1].[Jan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uple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Nelson, USA), (Computers, [1996]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ts 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Nelson, White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{ (Computers, USA), (Printers, Japan) 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[1996].Child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pCount(SalesReps.Member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10, Sal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DX Queri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ELECT sets on axes (N axe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FROM a source cub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ERE the data is sliced by some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Cub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91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Measure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Sales, Cost, Un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Tim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Year, Quarter, Mon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Geograph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Region, Coun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Product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Product Group, Product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a304"/>
                </a:solidFill>
                <a:latin typeface="Arial"/>
                <a:ea typeface="굴림"/>
              </a:rPr>
              <a:t>Customers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All, Customer Group, Customer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35120" y="577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680" y="1251000"/>
            <a:ext cx="84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members 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n </a:t>
            </a: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P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228600"/>
            <a:ext cx="744984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mple MDX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08320" y="1184400"/>
            <a:ext cx="488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1: Creating Ax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07960" y="192564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Stage 2: Getting Cells’ Val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668680" y="3105000"/>
            <a:ext cx="3017880" cy="502920"/>
            <a:chOff x="2668680" y="3105000"/>
            <a:chExt cx="3017880" cy="502920"/>
          </a:xfrm>
        </p:grpSpPr>
        <p:sp>
          <p:nvSpPr>
            <p:cNvPr id="159" name=""/>
            <p:cNvSpPr/>
            <p:nvPr/>
          </p:nvSpPr>
          <p:spPr>
            <a:xfrm>
              <a:off x="2975040" y="3294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668680" y="31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27320" y="3129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2400" y="3433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221440" y="3130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205160" y="3105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71016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9240" y="3117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726080" y="3105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221440" y="3129120"/>
            <a:ext cx="480960" cy="2828880"/>
            <a:chOff x="5221440" y="3129120"/>
            <a:chExt cx="480960" cy="2828880"/>
          </a:xfrm>
        </p:grpSpPr>
        <p:sp>
          <p:nvSpPr>
            <p:cNvPr id="169" name=""/>
            <p:cNvSpPr/>
            <p:nvPr/>
          </p:nvSpPr>
          <p:spPr>
            <a:xfrm>
              <a:off x="5380200" y="3446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06920" y="3294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2160" y="3129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221440" y="5479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234040" y="4044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5234040" y="4539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246640" y="4971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246640" y="3574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655720" y="3597120"/>
            <a:ext cx="2606760" cy="2411640"/>
            <a:chOff x="2655720" y="3597120"/>
            <a:chExt cx="2606760" cy="2411640"/>
          </a:xfrm>
        </p:grpSpPr>
        <p:sp>
          <p:nvSpPr>
            <p:cNvPr id="178" name=""/>
            <p:cNvSpPr/>
            <p:nvPr/>
          </p:nvSpPr>
          <p:spPr>
            <a:xfrm>
              <a:off x="47102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3597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14960" y="3598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9252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81320" y="3627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70120" y="3605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68680" y="4067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05040" y="5019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98920" y="5489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55720" y="5959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4000" y="4537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8788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157040" y="2813040"/>
            <a:ext cx="1967040" cy="924480"/>
            <a:chOff x="1157040" y="2813040"/>
            <a:chExt cx="1967040" cy="924480"/>
          </a:xfrm>
        </p:grpSpPr>
        <p:sp>
          <p:nvSpPr>
            <p:cNvPr id="191" name=""/>
            <p:cNvSpPr/>
            <p:nvPr/>
          </p:nvSpPr>
          <p:spPr>
            <a:xfrm>
              <a:off x="1837080" y="2813040"/>
              <a:ext cx="12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Grocer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040" y="33386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l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31000" y="3076560"/>
              <a:ext cx="142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pplianc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2469600" y="6157800"/>
            <a:ext cx="1819080" cy="368280"/>
            <a:chOff x="2469600" y="6157800"/>
            <a:chExt cx="1819080" cy="368280"/>
          </a:xfrm>
        </p:grpSpPr>
        <p:sp>
          <p:nvSpPr>
            <p:cNvPr id="195" name=""/>
            <p:cNvSpPr/>
            <p:nvPr/>
          </p:nvSpPr>
          <p:spPr>
            <a:xfrm>
              <a:off x="2469600" y="6157800"/>
              <a:ext cx="75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Sa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57840" y="6157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Co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8120" y="615780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굴림"/>
                </a:rPr>
                <a:t>Uni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36440" y="3639960"/>
            <a:ext cx="464040" cy="2305800"/>
            <a:chOff x="1936440" y="3639960"/>
            <a:chExt cx="464040" cy="2305800"/>
          </a:xfrm>
        </p:grpSpPr>
        <p:sp>
          <p:nvSpPr>
            <p:cNvPr id="199" name=""/>
            <p:cNvSpPr/>
            <p:nvPr/>
          </p:nvSpPr>
          <p:spPr>
            <a:xfrm>
              <a:off x="1936440" y="4608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6440" y="5110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36440" y="5546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6440" y="41162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644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9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733480" y="3633840"/>
            <a:ext cx="1324440" cy="2300760"/>
            <a:chOff x="2733480" y="3633840"/>
            <a:chExt cx="1324440" cy="2300760"/>
          </a:xfrm>
        </p:grpSpPr>
        <p:sp>
          <p:nvSpPr>
            <p:cNvPr id="205" name=""/>
            <p:cNvSpPr/>
            <p:nvPr/>
          </p:nvSpPr>
          <p:spPr>
            <a:xfrm>
              <a:off x="2733480" y="3639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247560" y="3633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35360" y="366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34920" y="4092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7560" y="4086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5360" y="4114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3480" y="4584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47560" y="457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5360" y="46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4920" y="5037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89040" y="5030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35360" y="50594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480" y="5513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47560" y="5506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5360" y="5535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ry Exec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3160800" y="2914560"/>
            <a:ext cx="3017880" cy="502920"/>
            <a:chOff x="3160800" y="2914560"/>
            <a:chExt cx="3017880" cy="502920"/>
          </a:xfrm>
        </p:grpSpPr>
        <p:sp>
          <p:nvSpPr>
            <p:cNvPr id="222" name=""/>
            <p:cNvSpPr/>
            <p:nvPr/>
          </p:nvSpPr>
          <p:spPr>
            <a:xfrm>
              <a:off x="3467160" y="310356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60800" y="2927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9440" y="293868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4520" y="324324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713560" y="29397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697280" y="29145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0228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681360" y="292716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218200" y="291456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713560" y="2938320"/>
            <a:ext cx="480960" cy="2828880"/>
            <a:chOff x="5713560" y="2938320"/>
            <a:chExt cx="480960" cy="2828880"/>
          </a:xfrm>
        </p:grpSpPr>
        <p:sp>
          <p:nvSpPr>
            <p:cNvPr id="232" name=""/>
            <p:cNvSpPr/>
            <p:nvPr/>
          </p:nvSpPr>
          <p:spPr>
            <a:xfrm>
              <a:off x="5872320" y="32558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9040" y="3103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64280" y="29383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3560" y="52891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5726160" y="38538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726160" y="43491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738760" y="47811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738760" y="33840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47840" y="3406680"/>
            <a:ext cx="2606760" cy="2411640"/>
            <a:chOff x="3147840" y="3406680"/>
            <a:chExt cx="2606760" cy="2411640"/>
          </a:xfrm>
        </p:grpSpPr>
        <p:sp>
          <p:nvSpPr>
            <p:cNvPr id="241" name=""/>
            <p:cNvSpPr/>
            <p:nvPr/>
          </p:nvSpPr>
          <p:spPr>
            <a:xfrm>
              <a:off x="520236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49640" y="34066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07080" y="34084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8464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73440" y="34369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62240" y="34146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60800" y="3876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97160" y="48294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91040" y="529920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47840" y="576900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56120" y="4346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0000" y="340668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46000" y="4446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46000" y="494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46000" y="5384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29200" y="251460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8480" y="31068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8120" y="281628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61720" y="59673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49960" y="5967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80240" y="596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87880" y="48387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57560" y="4338720"/>
            <a:ext cx="514440" cy="4921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680" y="13431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Sales ,Time.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9280" y="2933640"/>
            <a:ext cx="685800" cy="171360"/>
          </a:xfrm>
          <a:custGeom>
            <a:avLst/>
            <a:gdLst/>
            <a:ahLst/>
            <a:rect l="l" t="t" r="r" b="b"/>
            <a:pathLst>
              <a:path w="432" h="108">
                <a:moveTo>
                  <a:pt x="0" y="108"/>
                </a:moveTo>
                <a:lnTo>
                  <a:pt x="108" y="0"/>
                </a:lnTo>
                <a:lnTo>
                  <a:pt x="432" y="0"/>
                </a:lnTo>
                <a:lnTo>
                  <a:pt x="328" y="108"/>
                </a:lnTo>
                <a:lnTo>
                  <a:pt x="0" y="108"/>
                </a:lnTo>
                <a:close/>
              </a:path>
            </a:pathLst>
          </a:custGeom>
          <a:solidFill>
            <a:srgbClr val="fb796b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2680" y="1708200"/>
            <a:ext cx="83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Groceries , Measures.Cost ,Time.Year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46000" y="3954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46000" y="347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686916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3173400" y="3051000"/>
            <a:ext cx="3017880" cy="502920"/>
            <a:chOff x="3173400" y="3051000"/>
            <a:chExt cx="3017880" cy="502920"/>
          </a:xfrm>
        </p:grpSpPr>
        <p:sp>
          <p:nvSpPr>
            <p:cNvPr id="272" name=""/>
            <p:cNvSpPr/>
            <p:nvPr/>
          </p:nvSpPr>
          <p:spPr>
            <a:xfrm>
              <a:off x="3479760" y="3240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173400" y="3063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32040" y="3075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27120" y="3379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726160" y="3076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709880" y="3051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21488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693960" y="3063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230800" y="3051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726160" y="3075120"/>
            <a:ext cx="480960" cy="2828880"/>
            <a:chOff x="5726160" y="3075120"/>
            <a:chExt cx="480960" cy="2828880"/>
          </a:xfrm>
        </p:grpSpPr>
        <p:sp>
          <p:nvSpPr>
            <p:cNvPr id="282" name=""/>
            <p:cNvSpPr/>
            <p:nvPr/>
          </p:nvSpPr>
          <p:spPr>
            <a:xfrm>
              <a:off x="5884920" y="3392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11640" y="3240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6880" y="3075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726160" y="5425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738760" y="39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738760" y="4485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751360" y="4917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51360" y="3520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60800" y="3543480"/>
            <a:ext cx="2606760" cy="2410920"/>
            <a:chOff x="3160800" y="3543480"/>
            <a:chExt cx="2606760" cy="2410920"/>
          </a:xfrm>
        </p:grpSpPr>
        <p:sp>
          <p:nvSpPr>
            <p:cNvPr id="291" name=""/>
            <p:cNvSpPr/>
            <p:nvPr/>
          </p:nvSpPr>
          <p:spPr>
            <a:xfrm>
              <a:off x="521532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2600" y="35434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720040" y="354492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9760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6400" y="35733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75200" y="35510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3760" y="4013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210120" y="4965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4000" y="5435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60800" y="5905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69080" y="4483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2960" y="354348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687400" y="49878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0440" y="3189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5252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00480" y="4975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94000" y="449280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43320" y="4397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87880" y="5438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37200" y="5343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680" y="1739880"/>
            <a:ext cx="876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2680" y="210492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5560" y="226800"/>
            <a:ext cx="738180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7360" y="1047600"/>
            <a:ext cx="8470800" cy="25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Advanced Data</a:t>
            </a:r>
            <a:br>
              <a:rPr sz="3600"/>
            </a:br>
            <a:r>
              <a:rPr b="1" i="1" lang="en-US" sz="3600" spc="-1" strike="noStrike">
                <a:solidFill>
                  <a:srgbClr val="ffcc99"/>
                </a:solidFill>
                <a:latin typeface="Arial"/>
                <a:ea typeface="굴림"/>
              </a:rPr>
              <a:t>Warehousing Concept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ca804"/>
                </a:solidFill>
                <a:latin typeface="Arial"/>
                <a:ea typeface="굴림"/>
              </a:rPr>
              <a:t>Session 1:</a:t>
            </a:r>
            <a:br>
              <a:rPr sz="3600"/>
            </a:br>
            <a:r>
              <a:rPr b="1" lang="en-US" sz="3400" spc="-1" strike="noStrike">
                <a:solidFill>
                  <a:srgbClr val="fca804"/>
                </a:solidFill>
                <a:latin typeface="Arial"/>
                <a:ea typeface="굴림"/>
              </a:rPr>
              <a:t>Basics Multi Dimensional eXpressions</a:t>
            </a:r>
            <a:endParaRPr b="1" lang="en-US" sz="3400" spc="-1" strike="noStrike">
              <a:solidFill>
                <a:srgbClr val="fca80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7000" y="4038120"/>
            <a:ext cx="715644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우 철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컨설팅 사업부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VBSQ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ddlogo" descr=""/>
          <p:cNvPicPr/>
          <p:nvPr/>
        </p:nvPicPr>
        <p:blipFill>
          <a:blip r:embed="rId2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3173400" y="3078000"/>
            <a:ext cx="3017880" cy="502920"/>
            <a:chOff x="3173400" y="3078000"/>
            <a:chExt cx="3017880" cy="502920"/>
          </a:xfrm>
        </p:grpSpPr>
        <p:sp>
          <p:nvSpPr>
            <p:cNvPr id="315" name=""/>
            <p:cNvSpPr/>
            <p:nvPr/>
          </p:nvSpPr>
          <p:spPr>
            <a:xfrm>
              <a:off x="3479760" y="326700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173400" y="3090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32040" y="310212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7120" y="340668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5726160" y="31032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709880" y="307800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421488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693960" y="30906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230800" y="3078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726160" y="3102120"/>
            <a:ext cx="480960" cy="2828880"/>
            <a:chOff x="5726160" y="3102120"/>
            <a:chExt cx="480960" cy="2828880"/>
          </a:xfrm>
        </p:grpSpPr>
        <p:sp>
          <p:nvSpPr>
            <p:cNvPr id="325" name=""/>
            <p:cNvSpPr/>
            <p:nvPr/>
          </p:nvSpPr>
          <p:spPr>
            <a:xfrm>
              <a:off x="5884920" y="341964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11640" y="3267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76880" y="31021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726160" y="545292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38760" y="401760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5738760" y="451296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5751360" y="494496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51360" y="354780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60800" y="3570120"/>
            <a:ext cx="2606760" cy="2411640"/>
            <a:chOff x="3160800" y="3570120"/>
            <a:chExt cx="2606760" cy="2411640"/>
          </a:xfrm>
        </p:grpSpPr>
        <p:sp>
          <p:nvSpPr>
            <p:cNvPr id="334" name=""/>
            <p:cNvSpPr/>
            <p:nvPr/>
          </p:nvSpPr>
          <p:spPr>
            <a:xfrm>
              <a:off x="521532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162600" y="357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20040" y="3571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19760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6400" y="360036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75200" y="35780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73760" y="40402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10120" y="49928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04000" y="546264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60800" y="593244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69080" y="451008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92960" y="3570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604600" y="502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040" y="3228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36680" y="59421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00480" y="500220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94000" y="451944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43320" y="44244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2680" y="977760"/>
            <a:ext cx="844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87880" y="546588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37200" y="5370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680" y="1343160"/>
            <a:ext cx="818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 ,Time. 98.Next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7840" y="3571920"/>
            <a:ext cx="495360" cy="4572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08360" y="348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2680" y="1708200"/>
            <a:ext cx="84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ag(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402000"/>
            <a:ext cx="685800" cy="165240"/>
          </a:xfrm>
          <a:custGeom>
            <a:avLst/>
            <a:gdLst/>
            <a:ahLst/>
            <a:rect l="l" t="t" r="r" b="b"/>
            <a:pathLst>
              <a:path w="432" h="104">
                <a:moveTo>
                  <a:pt x="0" y="104"/>
                </a:moveTo>
                <a:lnTo>
                  <a:pt x="104" y="0"/>
                </a:lnTo>
                <a:lnTo>
                  <a:pt x="432" y="0"/>
                </a:lnTo>
                <a:lnTo>
                  <a:pt x="320" y="96"/>
                </a:lnTo>
                <a:lnTo>
                  <a:pt x="0" y="104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2680" y="2440080"/>
            <a:ext cx="852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Products.Clothing , Measures.Units.PrevMember ,Time. 98.Lead(-3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79720" y="2075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2680" y="226800"/>
            <a:ext cx="8942400" cy="69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Every Cell Still Has A Name...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alculated Member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251000"/>
            <a:ext cx="841536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OLAP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에서 중요한 기능으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복잡한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business logic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을 해결할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is the syntax for calculated memb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tatements – tools, query generators,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1040" indent="-45252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lculated members – DBAs and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ower us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770120" y="3097080"/>
            <a:ext cx="3017880" cy="502920"/>
            <a:chOff x="1770120" y="3097080"/>
            <a:chExt cx="3017880" cy="502920"/>
          </a:xfrm>
        </p:grpSpPr>
        <p:sp>
          <p:nvSpPr>
            <p:cNvPr id="366" name=""/>
            <p:cNvSpPr/>
            <p:nvPr/>
          </p:nvSpPr>
          <p:spPr>
            <a:xfrm>
              <a:off x="207648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77012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2876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2384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32288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0660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2811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9068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82752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322880" y="3121200"/>
            <a:ext cx="480960" cy="2828880"/>
            <a:chOff x="4322880" y="3121200"/>
            <a:chExt cx="480960" cy="2828880"/>
          </a:xfrm>
        </p:grpSpPr>
        <p:sp>
          <p:nvSpPr>
            <p:cNvPr id="376" name=""/>
            <p:cNvSpPr/>
            <p:nvPr/>
          </p:nvSpPr>
          <p:spPr>
            <a:xfrm>
              <a:off x="448164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0836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360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32288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33548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33548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34808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34808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7520" y="3589200"/>
            <a:ext cx="2606040" cy="2411640"/>
            <a:chOff x="1757520" y="3589200"/>
            <a:chExt cx="2606040" cy="2411640"/>
          </a:xfrm>
        </p:grpSpPr>
        <p:sp>
          <p:nvSpPr>
            <p:cNvPr id="385" name=""/>
            <p:cNvSpPr/>
            <p:nvPr/>
          </p:nvSpPr>
          <p:spPr>
            <a:xfrm>
              <a:off x="381168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5896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1640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39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8276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7156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012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648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0036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75752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6544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8932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03788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3788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3788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3852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8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244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7104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5928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8992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3788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3788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2680" y="227160"/>
            <a:ext cx="7124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834560" y="3625920"/>
            <a:ext cx="1324440" cy="2300760"/>
            <a:chOff x="1834560" y="3625920"/>
            <a:chExt cx="1324440" cy="2300760"/>
          </a:xfrm>
        </p:grpSpPr>
        <p:sp>
          <p:nvSpPr>
            <p:cNvPr id="410" name=""/>
            <p:cNvSpPr/>
            <p:nvPr/>
          </p:nvSpPr>
          <p:spPr>
            <a:xfrm>
              <a:off x="183456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34900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3644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3636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4900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3644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456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900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83644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636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49048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3644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456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900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83644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324648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03720" y="3592440"/>
            <a:ext cx="49500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884760" y="3171960"/>
            <a:ext cx="3107880" cy="1867680"/>
            <a:chOff x="3884760" y="3171960"/>
            <a:chExt cx="3107880" cy="1867680"/>
          </a:xfrm>
        </p:grpSpPr>
        <p:sp>
          <p:nvSpPr>
            <p:cNvPr id="428" name=""/>
            <p:cNvSpPr/>
            <p:nvPr/>
          </p:nvSpPr>
          <p:spPr>
            <a:xfrm>
              <a:off x="3884760" y="3879720"/>
              <a:ext cx="917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764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97440" y="4579920"/>
              <a:ext cx="111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p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323880" y="36338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00560" y="226800"/>
            <a:ext cx="287316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94000" y="407844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762200" y="3097080"/>
            <a:ext cx="3017880" cy="502920"/>
            <a:chOff x="1762200" y="3097080"/>
            <a:chExt cx="3017880" cy="502920"/>
          </a:xfrm>
        </p:grpSpPr>
        <p:sp>
          <p:nvSpPr>
            <p:cNvPr id="437" name=""/>
            <p:cNvSpPr/>
            <p:nvPr/>
          </p:nvSpPr>
          <p:spPr>
            <a:xfrm>
              <a:off x="2068560" y="328608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1762200" y="3109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20840" y="312120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15920" y="342576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314960" y="31222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298680" y="309708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80368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2282760" y="31096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9600" y="309708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314960" y="3121200"/>
            <a:ext cx="480960" cy="2828880"/>
            <a:chOff x="4314960" y="3121200"/>
            <a:chExt cx="480960" cy="2828880"/>
          </a:xfrm>
        </p:grpSpPr>
        <p:sp>
          <p:nvSpPr>
            <p:cNvPr id="447" name=""/>
            <p:cNvSpPr/>
            <p:nvPr/>
          </p:nvSpPr>
          <p:spPr>
            <a:xfrm>
              <a:off x="4473720" y="34387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00440" y="32860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765680" y="31212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4314960" y="54720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327560" y="40366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27560" y="45320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340160" y="49640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340160" y="35668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1749600" y="3589200"/>
            <a:ext cx="2606040" cy="2411640"/>
            <a:chOff x="1749600" y="3589200"/>
            <a:chExt cx="2606040" cy="2411640"/>
          </a:xfrm>
        </p:grpSpPr>
        <p:sp>
          <p:nvSpPr>
            <p:cNvPr id="456" name=""/>
            <p:cNvSpPr/>
            <p:nvPr/>
          </p:nvSpPr>
          <p:spPr>
            <a:xfrm>
              <a:off x="380376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51040" y="358920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08480" y="35910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8604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74840" y="361944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763640" y="359712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762200" y="4059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98560" y="5011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792440" y="54817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749600" y="59515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757520" y="45291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1400" y="3589200"/>
              <a:ext cx="0" cy="238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1029960" y="4600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29960" y="5102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29960" y="55389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30600" y="28051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50560" y="33307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24520" y="306864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63120" y="614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51360" y="614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82000" y="6149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29960" y="41083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29960" y="36320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2680" y="227160"/>
            <a:ext cx="71787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38560" y="61279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881520" y="3171960"/>
            <a:ext cx="3168720" cy="1867680"/>
            <a:chOff x="3881520" y="3171960"/>
            <a:chExt cx="3168720" cy="1867680"/>
          </a:xfrm>
        </p:grpSpPr>
        <p:sp>
          <p:nvSpPr>
            <p:cNvPr id="482" name=""/>
            <p:cNvSpPr/>
            <p:nvPr/>
          </p:nvSpPr>
          <p:spPr>
            <a:xfrm>
              <a:off x="3881520" y="433368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3408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3408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279600" y="3651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49440" y="4138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51960" y="279072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52080" y="42210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826640" y="3625920"/>
            <a:ext cx="1324440" cy="2300760"/>
            <a:chOff x="1826640" y="3625920"/>
            <a:chExt cx="1324440" cy="2300760"/>
          </a:xfrm>
        </p:grpSpPr>
        <p:sp>
          <p:nvSpPr>
            <p:cNvPr id="490" name=""/>
            <p:cNvSpPr/>
            <p:nvPr/>
          </p:nvSpPr>
          <p:spPr>
            <a:xfrm>
              <a:off x="1826640" y="3632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341080" y="36259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828520" y="3654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28440" y="4084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41080" y="4078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828520" y="41068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6640" y="4576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41080" y="4570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28520" y="4618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8440" y="502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82560" y="5022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828520" y="50515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6640" y="5505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41080" y="549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28520" y="5527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54560" y="226800"/>
            <a:ext cx="281952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301920" y="4543560"/>
            <a:ext cx="4953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508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518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527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84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680" y="227160"/>
            <a:ext cx="7164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884760" y="3171960"/>
            <a:ext cx="3168720" cy="1867680"/>
            <a:chOff x="3884760" y="3171960"/>
            <a:chExt cx="3168720" cy="1867680"/>
          </a:xfrm>
        </p:grpSpPr>
        <p:sp>
          <p:nvSpPr>
            <p:cNvPr id="555" name=""/>
            <p:cNvSpPr/>
            <p:nvPr/>
          </p:nvSpPr>
          <p:spPr>
            <a:xfrm>
              <a:off x="3884760" y="4822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3504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8112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562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456240" y="226800"/>
            <a:ext cx="251784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292560" y="5019840"/>
            <a:ext cx="5205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773360" y="3095640"/>
            <a:ext cx="3017880" cy="502920"/>
            <a:chOff x="1773360" y="3095640"/>
            <a:chExt cx="3017880" cy="502920"/>
          </a:xfrm>
        </p:grpSpPr>
        <p:sp>
          <p:nvSpPr>
            <p:cNvPr id="580" name=""/>
            <p:cNvSpPr/>
            <p:nvPr/>
          </p:nvSpPr>
          <p:spPr>
            <a:xfrm>
              <a:off x="207972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77336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3200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2708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432612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30984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281484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229392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83076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325760" y="3119400"/>
            <a:ext cx="480960" cy="2828880"/>
            <a:chOff x="4325760" y="3119400"/>
            <a:chExt cx="480960" cy="2828880"/>
          </a:xfrm>
        </p:grpSpPr>
        <p:sp>
          <p:nvSpPr>
            <p:cNvPr id="590" name=""/>
            <p:cNvSpPr/>
            <p:nvPr/>
          </p:nvSpPr>
          <p:spPr>
            <a:xfrm>
              <a:off x="448452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1124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7648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432576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433836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33836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435096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35096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60400" y="3587760"/>
            <a:ext cx="2606760" cy="2410920"/>
            <a:chOff x="1760400" y="3587760"/>
            <a:chExt cx="2606760" cy="2410920"/>
          </a:xfrm>
        </p:grpSpPr>
        <p:sp>
          <p:nvSpPr>
            <p:cNvPr id="599" name=""/>
            <p:cNvSpPr/>
            <p:nvPr/>
          </p:nvSpPr>
          <p:spPr>
            <a:xfrm>
              <a:off x="38149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62200" y="35877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1964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9720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600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7480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73360" y="40575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09720" y="50101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03600" y="54799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60400" y="5949720"/>
              <a:ext cx="2557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68680" y="452736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2925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112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04112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04112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4176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2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568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28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6252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9280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4112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4112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82680" y="227160"/>
            <a:ext cx="71103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4972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884760" y="3171960"/>
            <a:ext cx="3168720" cy="2122200"/>
            <a:chOff x="3884760" y="3171960"/>
            <a:chExt cx="3168720" cy="2122200"/>
          </a:xfrm>
        </p:grpSpPr>
        <p:sp>
          <p:nvSpPr>
            <p:cNvPr id="625" name=""/>
            <p:cNvSpPr/>
            <p:nvPr/>
          </p:nvSpPr>
          <p:spPr>
            <a:xfrm>
              <a:off x="3884760" y="52941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37320" y="457992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329040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6060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36204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36204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837800" y="3624120"/>
            <a:ext cx="1324440" cy="2300760"/>
            <a:chOff x="1837800" y="3624120"/>
            <a:chExt cx="1324440" cy="2300760"/>
          </a:xfrm>
        </p:grpSpPr>
        <p:sp>
          <p:nvSpPr>
            <p:cNvPr id="635" name=""/>
            <p:cNvSpPr/>
            <p:nvPr/>
          </p:nvSpPr>
          <p:spPr>
            <a:xfrm>
              <a:off x="183780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5224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3968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3960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5224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3968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3780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35224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3968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3960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9372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3968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83780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5224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3968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51040" y="226800"/>
            <a:ext cx="27226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301920" y="5491080"/>
            <a:ext cx="507960" cy="45720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770120" y="3095640"/>
            <a:ext cx="3017880" cy="502920"/>
            <a:chOff x="1770120" y="3095640"/>
            <a:chExt cx="3017880" cy="502920"/>
          </a:xfrm>
        </p:grpSpPr>
        <p:sp>
          <p:nvSpPr>
            <p:cNvPr id="653" name=""/>
            <p:cNvSpPr/>
            <p:nvPr/>
          </p:nvSpPr>
          <p:spPr>
            <a:xfrm>
              <a:off x="2076480" y="3284640"/>
              <a:ext cx="2533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1770120" y="3108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28760" y="3119760"/>
              <a:ext cx="2559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3840" y="3424320"/>
              <a:ext cx="2546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22880" y="31208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306600" y="30956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281160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290680" y="310824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827520" y="309564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322880" y="3119400"/>
            <a:ext cx="480960" cy="2828880"/>
            <a:chOff x="4322880" y="3119400"/>
            <a:chExt cx="480960" cy="2828880"/>
          </a:xfrm>
        </p:grpSpPr>
        <p:sp>
          <p:nvSpPr>
            <p:cNvPr id="663" name=""/>
            <p:cNvSpPr/>
            <p:nvPr/>
          </p:nvSpPr>
          <p:spPr>
            <a:xfrm>
              <a:off x="4481640" y="343692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08360" y="328428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3600" y="3119400"/>
              <a:ext cx="0" cy="235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4322880" y="5470200"/>
              <a:ext cx="45540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4335480" y="403488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4335480" y="4530240"/>
              <a:ext cx="45540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4348080" y="4962240"/>
              <a:ext cx="455760" cy="47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48080" y="3565080"/>
              <a:ext cx="455760" cy="47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757520" y="3587760"/>
            <a:ext cx="2606040" cy="2410920"/>
            <a:chOff x="1757520" y="3587760"/>
            <a:chExt cx="2606040" cy="2410920"/>
          </a:xfrm>
        </p:grpSpPr>
        <p:sp>
          <p:nvSpPr>
            <p:cNvPr id="672" name=""/>
            <p:cNvSpPr/>
            <p:nvPr/>
          </p:nvSpPr>
          <p:spPr>
            <a:xfrm>
              <a:off x="381168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58960" y="35877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316400" y="3589200"/>
              <a:ext cx="0" cy="2355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9396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82760" y="361764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71560" y="359532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70120" y="40575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6480" y="50101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800360" y="547992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57520" y="5949720"/>
              <a:ext cx="255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5440" y="4527360"/>
              <a:ext cx="2557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289320" y="35877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037880" y="459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037880" y="5100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037880" y="55371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38520" y="2803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ce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2880" y="33289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32440" y="30672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Appli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71040" y="61484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159280" y="6148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o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89920" y="614844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Un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37880" y="41068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37880" y="36306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2680" y="227160"/>
            <a:ext cx="70689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mber Measures.Growth</a:t>
            </a:r>
            <a:r>
              <a:rPr b="0" lang="en-US" sz="2000" spc="-1" strike="noStrike">
                <a:solidFill>
                  <a:srgbClr val="ffcc99"/>
                </a:solidFill>
                <a:latin typeface="Arial"/>
                <a:ea typeface="굴림"/>
              </a:rPr>
              <a:t> a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‘(</a:t>
            </a:r>
            <a:r>
              <a:rPr b="0" lang="en-US" sz="2000" spc="-1" strike="noStrike">
                <a:solidFill>
                  <a:srgbClr val="f66a24"/>
                </a:solidFill>
                <a:latin typeface="Arial"/>
                <a:ea typeface="굴림"/>
              </a:rPr>
              <a:t>Time.current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- (</a:t>
            </a:r>
            <a:r>
              <a:rPr b="0" lang="en-US" sz="2000" spc="-1" strike="noStrike">
                <a:solidFill>
                  <a:srgbClr val="22d62f"/>
                </a:solidFill>
                <a:latin typeface="Arial"/>
                <a:ea typeface="굴림"/>
              </a:rPr>
              <a:t>Time.currentmember.prevmemb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,Measures.Sales)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Sel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ime.year.members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Row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ddCalculatedMembers(Measures.members) on 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Colum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duct.[Product Department].members on P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ffcc99"/>
                </a:solidFill>
                <a:latin typeface="Arial"/>
                <a:ea typeface="굴림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46480" y="61261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3884760" y="3171960"/>
            <a:ext cx="3168720" cy="2541600"/>
            <a:chOff x="3884760" y="3171960"/>
            <a:chExt cx="3168720" cy="2541600"/>
          </a:xfrm>
        </p:grpSpPr>
        <p:sp>
          <p:nvSpPr>
            <p:cNvPr id="698" name=""/>
            <p:cNvSpPr/>
            <p:nvPr/>
          </p:nvSpPr>
          <p:spPr>
            <a:xfrm>
              <a:off x="3884760" y="5713560"/>
              <a:ext cx="917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737320" y="317196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37320" y="458028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Time.9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287520" y="3649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7360" y="4137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359160" y="46069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59160" y="5021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59160" y="5487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cc99"/>
                </a:solidFill>
                <a:latin typeface="Arial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151960" y="2787480"/>
            <a:ext cx="26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66a24"/>
                </a:solidFill>
                <a:uFillTx/>
                <a:latin typeface="Arial"/>
                <a:ea typeface="굴림"/>
              </a:rPr>
              <a:t>Time.Current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47400" y="4222800"/>
            <a:ext cx="41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2d62f"/>
                </a:solidFill>
                <a:uFillTx/>
                <a:latin typeface="Arial"/>
                <a:ea typeface="굴림"/>
              </a:rPr>
              <a:t>Time.CurrentMember.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834560" y="3624120"/>
            <a:ext cx="1324440" cy="2300760"/>
            <a:chOff x="1834560" y="3624120"/>
            <a:chExt cx="1324440" cy="2300760"/>
          </a:xfrm>
        </p:grpSpPr>
        <p:sp>
          <p:nvSpPr>
            <p:cNvPr id="709" name=""/>
            <p:cNvSpPr/>
            <p:nvPr/>
          </p:nvSpPr>
          <p:spPr>
            <a:xfrm>
              <a:off x="1834560" y="36306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49000" y="3624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6440" y="3652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36360" y="4082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1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349000" y="4076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36440" y="41050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34560" y="45748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349000" y="4568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8364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836360" y="50274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2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490480" y="50209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36440" y="504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34560" y="55036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cc99"/>
                  </a:solidFill>
                  <a:latin typeface="Arial"/>
                  <a:ea typeface="굴림"/>
                </a:rPr>
                <a:t>3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49000" y="5497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36440" y="5526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5da1b9"/>
                  </a:solidFill>
                  <a:latin typeface="Arial"/>
                  <a:ea typeface="굴림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319440" y="226800"/>
            <a:ext cx="26542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ales Growth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GetCellValue(CurrentCell)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4880" y="3414600"/>
            <a:ext cx="4664160" cy="311472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L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Push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Measure = S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CurrentCell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Tim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 Prevme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 = 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op CurrentCe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Result = L - 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00680" y="301788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00680" y="154620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79280" y="1571760"/>
            <a:ext cx="3246480" cy="38088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etCellValue(CurrentCe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166680" y="1978200"/>
            <a:ext cx="3340080" cy="833400"/>
            <a:chOff x="166680" y="1978200"/>
            <a:chExt cx="3340080" cy="833400"/>
          </a:xfrm>
        </p:grpSpPr>
        <p:sp>
          <p:nvSpPr>
            <p:cNvPr id="731" name=""/>
            <p:cNvSpPr/>
            <p:nvPr/>
          </p:nvSpPr>
          <p:spPr>
            <a:xfrm>
              <a:off x="287280" y="2389320"/>
              <a:ext cx="3219480" cy="422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6680" y="2266920"/>
              <a:ext cx="3246480" cy="4366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Formula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787400" y="1978200"/>
              <a:ext cx="0" cy="28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535200" y="2198520"/>
            <a:ext cx="1674720" cy="312840"/>
            <a:chOff x="3535200" y="2198520"/>
            <a:chExt cx="1674720" cy="312840"/>
          </a:xfrm>
        </p:grpSpPr>
        <p:sp>
          <p:nvSpPr>
            <p:cNvPr id="735" name=""/>
            <p:cNvSpPr/>
            <p:nvPr/>
          </p:nvSpPr>
          <p:spPr>
            <a:xfrm>
              <a:off x="3535200" y="2511360"/>
              <a:ext cx="1611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1680" y="2198520"/>
              <a:ext cx="139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No: Return Cel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395280" y="2825640"/>
            <a:ext cx="4971960" cy="574920"/>
            <a:chOff x="395280" y="2825640"/>
            <a:chExt cx="4971960" cy="574920"/>
          </a:xfrm>
        </p:grpSpPr>
        <p:sp>
          <p:nvSpPr>
            <p:cNvPr id="738" name=""/>
            <p:cNvSpPr/>
            <p:nvPr/>
          </p:nvSpPr>
          <p:spPr>
            <a:xfrm>
              <a:off x="701640" y="3032280"/>
              <a:ext cx="4665600" cy="368280"/>
            </a:xfrm>
            <a:prstGeom prst="rect">
              <a:avLst/>
            </a:prstGeom>
            <a:solidFill>
              <a:srgbClr val="fb796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Member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굴림"/>
                </a:rPr>
                <a:t> Calculate(CurrentCell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395280" y="2825640"/>
              <a:ext cx="299880" cy="395280"/>
              <a:chOff x="395280" y="2825640"/>
              <a:chExt cx="299880" cy="395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95280" y="2825640"/>
                <a:ext cx="0" cy="39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95280" y="3220920"/>
                <a:ext cx="299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2" name=""/>
          <p:cNvSpPr/>
          <p:nvPr/>
        </p:nvSpPr>
        <p:spPr>
          <a:xfrm>
            <a:off x="5800680" y="3444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00680" y="37479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00680" y="434808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00680" y="462276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00680" y="4938840"/>
            <a:ext cx="31798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00680" y="5838840"/>
            <a:ext cx="317808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Growth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00680" y="5483160"/>
            <a:ext cx="31780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 = Sales in 97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00680" y="401148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 = Sales in 98 of Clo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00680" y="6195960"/>
            <a:ext cx="3179880" cy="34128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Growth in 98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l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3588840" y="1692360"/>
            <a:ext cx="1980000" cy="2525760"/>
            <a:chOff x="3588840" y="1692360"/>
            <a:chExt cx="1980000" cy="2525760"/>
          </a:xfrm>
        </p:grpSpPr>
        <p:sp>
          <p:nvSpPr>
            <p:cNvPr id="752" name=""/>
            <p:cNvSpPr/>
            <p:nvPr/>
          </p:nvSpPr>
          <p:spPr>
            <a:xfrm>
              <a:off x="5349960" y="4216320"/>
              <a:ext cx="218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5568840" y="1706400"/>
              <a:ext cx="0" cy="250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588840" y="1692360"/>
              <a:ext cx="1979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548160" y="1677960"/>
            <a:ext cx="2047680" cy="4081320"/>
            <a:chOff x="3548160" y="1677960"/>
            <a:chExt cx="2047680" cy="4081320"/>
          </a:xfrm>
        </p:grpSpPr>
        <p:sp>
          <p:nvSpPr>
            <p:cNvPr id="756" name=""/>
            <p:cNvSpPr/>
            <p:nvPr/>
          </p:nvSpPr>
          <p:spPr>
            <a:xfrm>
              <a:off x="5349960" y="5759280"/>
              <a:ext cx="24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5581440" y="1692360"/>
              <a:ext cx="14040" cy="405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3548160" y="1677960"/>
              <a:ext cx="2047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186520" y="235908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98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94440" y="2327400"/>
            <a:ext cx="3342960" cy="341280"/>
          </a:xfrm>
          <a:prstGeom prst="rect">
            <a:avLst/>
          </a:prstGeom>
          <a:solidFill>
            <a:srgbClr val="00e9e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ca304"/>
                </a:solidFill>
                <a:latin typeface="Times New Roman"/>
                <a:ea typeface="굴림"/>
              </a:rPr>
              <a:t>Sales, 97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, Cloth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444920" y="1035000"/>
            <a:ext cx="4533840" cy="1099800"/>
          </a:xfrm>
          <a:prstGeom prst="rect">
            <a:avLst/>
          </a:prstGeom>
          <a:solidFill>
            <a:srgbClr val="00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Grow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Sales,Time.CurrentMember) –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(Sales,Time.CurrentMember.PrevMemb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91480" y="402588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=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91480" y="5484960"/>
            <a:ext cx="1206360" cy="30636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=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23000" y="6146640"/>
            <a:ext cx="1541520" cy="341640"/>
          </a:xfrm>
          <a:prstGeom prst="rect">
            <a:avLst/>
          </a:prstGeom>
          <a:solidFill>
            <a:srgbClr val="fca30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-R=29-22=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82680" y="1800360"/>
            <a:ext cx="720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기간 대비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5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6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,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대비 </a:t>
            </a:r>
            <a:r>
              <a:rPr b="0" lang="en-US" sz="3200" spc="-1" strike="noStrike">
                <a:solidFill>
                  <a:srgbClr val="ffffb7"/>
                </a:solidFill>
                <a:latin typeface="Arial"/>
                <a:ea typeface="굴림"/>
              </a:rPr>
              <a:t>Q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2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2680" y="3052800"/>
            <a:ext cx="85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이전 년도 기간 대비 동기간의 판매의 변화는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      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(1998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 대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999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월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2680" y="4541760"/>
            <a:ext cx="789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년 초부터의 누적 판매실적은 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5967360" cy="129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ca304"/>
                </a:solidFill>
                <a:latin typeface="Arial"/>
                <a:ea typeface="굴림"/>
              </a:rPr>
              <a:t>“</a:t>
            </a:r>
            <a:r>
              <a:rPr b="1" lang="en-US" sz="4400" spc="-1" strike="noStrike">
                <a:solidFill>
                  <a:srgbClr val="fca304"/>
                </a:solidFill>
                <a:latin typeface="Arial"/>
                <a:ea typeface="굴림"/>
              </a:rPr>
              <a:t>It’s Just A Question Of Time ….”</a:t>
            </a:r>
            <a:endParaRPr b="1" lang="en-US" sz="44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769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3581280" y="2892600"/>
            <a:ext cx="1067040" cy="304560"/>
          </a:xfrm>
          <a:prstGeom prst="rect">
            <a:avLst/>
          </a:prstGeom>
          <a:solidFill>
            <a:srgbClr val="fb796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1" name=""/>
          <p:cNvGraphicFramePr/>
          <p:nvPr/>
        </p:nvGraphicFramePr>
        <p:xfrm>
          <a:off x="609480" y="1444680"/>
          <a:ext cx="10293480" cy="55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468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774" name=""/>
          <p:cNvSpPr/>
          <p:nvPr/>
        </p:nvSpPr>
        <p:spPr>
          <a:xfrm flipH="1" flipV="1">
            <a:off x="3809160" y="2358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3809160" y="2586960"/>
            <a:ext cx="435240" cy="615960"/>
          </a:xfrm>
          <a:custGeom>
            <a:avLst/>
            <a:gdLst>
              <a:gd name="textAreaLeft" fmla="*/ 58320 w 435240"/>
              <a:gd name="textAreaRight" fmla="*/ 376920 w 435240"/>
              <a:gd name="textAreaTop" fmla="*/ 107280 h 615960"/>
              <a:gd name="textAreaBottom" fmla="*/ 446400 h 6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 flipV="1">
            <a:off x="3809160" y="3501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3809160" y="3806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3809160" y="464436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3809160" y="49492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 flipV="1">
            <a:off x="3809160" y="586368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3809160" y="6168240"/>
            <a:ext cx="381240" cy="539640"/>
          </a:xfrm>
          <a:custGeom>
            <a:avLst/>
            <a:gdLst>
              <a:gd name="textAreaLeft" fmla="*/ 51120 w 381240"/>
              <a:gd name="textAreaRight" fmla="*/ 330120 w 381240"/>
              <a:gd name="textAreaTop" fmla="*/ 94320 h 539640"/>
              <a:gd name="textAreaBottom" fmla="*/ 391320 h 5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3809160" y="2892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2209680" y="2510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809160" y="4035600"/>
            <a:ext cx="381240" cy="83808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880 h 838080"/>
              <a:gd name="textAreaBottom" fmla="*/ 60804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3809160" y="5253840"/>
            <a:ext cx="381240" cy="838440"/>
          </a:xfrm>
          <a:custGeom>
            <a:avLst/>
            <a:gdLst>
              <a:gd name="textAreaLeft" fmla="*/ 51120 w 381240"/>
              <a:gd name="textAreaRight" fmla="*/ 330120 w 38124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066711"/>
                <a:lnTo>
                  <a:pt x="11782" y="20774"/>
                </a:lnTo>
                <a:lnTo>
                  <a:pt x="21600" y="17280"/>
                </a:lnTo>
                <a:lnTo>
                  <a:pt x="11782" y="12134"/>
                </a:lnTo>
                <a:lnTo>
                  <a:pt x="11782" y="14294"/>
                </a:lnTo>
                <a:arcTo wR="21600" hR="7560" stAng="8733289" swAng="1709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b796b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2209680" y="3653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2209680" y="4796640"/>
            <a:ext cx="609840" cy="1219320"/>
          </a:xfrm>
          <a:custGeom>
            <a:avLst/>
            <a:gdLst>
              <a:gd name="textAreaLeft" fmla="*/ 81720 w 609840"/>
              <a:gd name="textAreaRight" fmla="*/ 528120 w 60984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9400" y="25876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639400" y="5178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638680" y="54831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39400" y="5788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639400" y="6093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639760" y="6397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638680" y="37306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639400" y="40356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638680" y="434016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638680" y="464508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639760" y="4950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639400" y="2816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9400" y="3121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639400" y="3425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86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7360" y="226800"/>
            <a:ext cx="719784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hat will you hear about today?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2320" y="1251000"/>
            <a:ext cx="845820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hat is MDX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Ba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 Que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olving Business Problems with MD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ception floa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rket basket analy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orking with virtual cub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urrency convers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3" name=""/>
          <p:cNvGraphicFramePr/>
          <p:nvPr/>
        </p:nvGraphicFramePr>
        <p:xfrm>
          <a:off x="0" y="2438280"/>
          <a:ext cx="10293480" cy="5585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10293480" cy="55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5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5181480" y="3276720"/>
            <a:ext cx="5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182200" y="3581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182200" y="26668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182200" y="2971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cc3300"/>
                </a:solidFill>
                <a:latin typeface="Times New Roman"/>
                <a:ea typeface="굴림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105520" y="327672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08280" y="4267080"/>
            <a:ext cx="62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Times New Roman"/>
                <a:ea typeface="굴림"/>
              </a:rPr>
              <a:t>Time.CurrentMember, Measures.CurrentMe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14800" y="2971800"/>
            <a:ext cx="60948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3276720"/>
            <a:ext cx="60948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86400" y="5105520"/>
            <a:ext cx="48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  <a:ea typeface="굴림"/>
              </a:rPr>
              <a:t>Time.CurrentMembe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060560" y="594360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Time.CurrentMember.PrevMember, 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248520" y="4419720"/>
            <a:ext cx="1636560" cy="1004760"/>
            <a:chOff x="6248520" y="4419720"/>
            <a:chExt cx="1636560" cy="1004760"/>
          </a:xfrm>
        </p:grpSpPr>
        <p:grpSp>
          <p:nvGrpSpPr>
            <p:cNvPr id="817" name=""/>
            <p:cNvGrpSpPr/>
            <p:nvPr/>
          </p:nvGrpSpPr>
          <p:grpSpPr>
            <a:xfrm>
              <a:off x="7391520" y="4419720"/>
              <a:ext cx="493560" cy="242640"/>
              <a:chOff x="7391520" y="4419720"/>
              <a:chExt cx="493560" cy="242640"/>
            </a:xfrm>
          </p:grpSpPr>
          <p:sp>
            <p:nvSpPr>
              <p:cNvPr id="818" name=""/>
              <p:cNvSpPr/>
              <p:nvPr/>
            </p:nvSpPr>
            <p:spPr>
              <a:xfrm>
                <a:off x="7391520" y="441972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391520" y="4572000"/>
                <a:ext cx="493560" cy="90360"/>
              </a:xfrm>
              <a:prstGeom prst="rect">
                <a:avLst/>
              </a:prstGeom>
              <a:solidFill>
                <a:srgbClr val="fca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>
              <a:off x="6248520" y="533412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1" name=""/>
          <p:cNvSpPr/>
          <p:nvPr/>
        </p:nvSpPr>
        <p:spPr>
          <a:xfrm flipH="1">
            <a:off x="4876920" y="3657600"/>
            <a:ext cx="304560" cy="685800"/>
          </a:xfrm>
          <a:prstGeom prst="line">
            <a:avLst/>
          </a:prstGeom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809520" y="3733920"/>
            <a:ext cx="685800" cy="15238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2437920" y="3200400"/>
            <a:ext cx="1676520" cy="2819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기간 판매 대비 현재 기간의 판매의 변화는 어떻 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309600" y="1706400"/>
          <a:ext cx="10167840" cy="493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1706400"/>
                    <a:ext cx="1016784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7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2895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95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2670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18148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248520" y="300204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670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18148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248520" y="51354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3657600" y="20876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3657600" y="3153600"/>
            <a:ext cx="838080" cy="259092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1980360" y="223920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980360" y="3305880"/>
            <a:ext cx="838440" cy="2590920"/>
          </a:xfrm>
          <a:custGeom>
            <a:avLst/>
            <a:gdLst>
              <a:gd name="textAreaLeft" fmla="*/ 112320 w 838440"/>
              <a:gd name="textAreaRight" fmla="*/ 726120 w 838440"/>
              <a:gd name="textAreaTop" fmla="*/ 533520 h 2590920"/>
              <a:gd name="textAreaBottom" fmla="*/ 17982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33160" y="2544840"/>
            <a:ext cx="838080" cy="2590560"/>
          </a:xfrm>
          <a:custGeom>
            <a:avLst/>
            <a:gdLst>
              <a:gd name="textAreaLeft" fmla="*/ 112320 w 838080"/>
              <a:gd name="textAreaRight" fmla="*/ 725760 w 838080"/>
              <a:gd name="textAreaTop" fmla="*/ 533520 h 2590560"/>
              <a:gd name="textAreaBottom" fmla="*/ 17978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0" stAng="-5400000" swAng="-5400000"/>
                <a:lnTo>
                  <a:pt x="0" y="10540"/>
                </a:lnTo>
                <a:arcTo wR="21600" hR="8900" stAng="10800000" swAng="-2335134"/>
                <a:lnTo>
                  <a:pt x="11782" y="20627"/>
                </a:lnTo>
                <a:lnTo>
                  <a:pt x="21600" y="18620"/>
                </a:lnTo>
                <a:lnTo>
                  <a:pt x="11782" y="14667"/>
                </a:lnTo>
                <a:lnTo>
                  <a:pt x="11782" y="16827"/>
                </a:lnTo>
                <a:arcTo wR="21600" hR="8900" stAng="8464866" swAng="2204133"/>
                <a:lnTo>
                  <a:pt x="92" y="9720"/>
                </a:lnTo>
                <a:arcTo wR="21600" hR="8900" stAng="-10668999" swAng="5268999"/>
                <a:close/>
              </a:path>
              <a:path fill="darkenLess" w="21600" h="21600">
                <a:moveTo>
                  <a:pt x="21600" y="0"/>
                </a:moveTo>
                <a:arcTo wR="21600" hR="8900" stAng="-5400000" swAng="-5400000"/>
                <a:lnTo>
                  <a:pt x="0" y="8900"/>
                </a:lnTo>
                <a:arcTo wR="21600" hR="8900" stAng="10800000" swAng="-131001"/>
                <a:lnTo>
                  <a:pt x="92" y="9720"/>
                </a:lnTo>
                <a:arcTo wR="21600" hR="8900" stAng="-10668999" swAng="526899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41116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411160" y="5516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111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335560" y="5288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-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6612120" cy="86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6" name=""/>
          <p:cNvGraphicFramePr/>
          <p:nvPr/>
        </p:nvGraphicFramePr>
        <p:xfrm>
          <a:off x="655560" y="1509840"/>
          <a:ext cx="10167840" cy="490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560" y="1509840"/>
                    <a:ext cx="1016784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3243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243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148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2924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595920" y="2809800"/>
            <a:ext cx="0" cy="1526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148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2924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595920" y="4943520"/>
            <a:ext cx="0" cy="1522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58920" y="4257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cc3300"/>
                </a:solidFill>
                <a:latin typeface="Times New Roman"/>
                <a:ea typeface="굴림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31320" y="611172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굴림"/>
              </a:rPr>
              <a:t>Measures,Sales,Time.CurrentMember)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605560" y="4181400"/>
            <a:ext cx="609480" cy="457200"/>
          </a:xfrm>
          <a:prstGeom prst="ellipse">
            <a:avLst/>
          </a:prstGeom>
          <a:noFill/>
          <a:ln w="381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38520" y="2048040"/>
            <a:ext cx="609840" cy="457200"/>
          </a:xfrm>
          <a:prstGeom prst="ellipse">
            <a:avLst/>
          </a:prstGeom>
          <a:noFill/>
          <a:ln w="38160">
            <a:solidFill>
              <a:srgbClr val="fca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38520" y="4181400"/>
            <a:ext cx="609840" cy="45720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1680" y="6400800"/>
            <a:ext cx="78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(</a:t>
            </a:r>
            <a:r>
              <a:rPr b="0" lang="en-US" sz="2400" spc="-1" strike="noStrike">
                <a:solidFill>
                  <a:srgbClr val="fca304"/>
                </a:solidFill>
                <a:latin typeface="Times New Roman"/>
                <a:ea typeface="굴림"/>
              </a:rPr>
              <a:t>Measures.Sales,ParallelPeriod(Year,1,Time.CurrentMember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85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이전 년도 기간 대비 동기간의</a:t>
            </a:r>
            <a:br>
              <a:rPr sz="2800"/>
            </a:b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판매의 변화는 어떠하였는가</a:t>
            </a:r>
            <a:r>
              <a:rPr b="1" lang="ko-KR" sz="28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endParaRPr b="1" lang="en-US" sz="2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TimeSm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5" name=""/>
          <p:cNvGraphicFramePr/>
          <p:nvPr/>
        </p:nvGraphicFramePr>
        <p:xfrm>
          <a:off x="593640" y="1374840"/>
          <a:ext cx="10293480" cy="558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1374840"/>
                    <a:ext cx="1029348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7" name=""/>
          <p:cNvSpPr/>
          <p:nvPr/>
        </p:nvSpPr>
        <p:spPr>
          <a:xfrm>
            <a:off x="4251240" y="2441520"/>
            <a:ext cx="0" cy="3886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27360" y="2441520"/>
            <a:ext cx="0" cy="3886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029280" cy="96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0" name=""/>
          <p:cNvGraphicFramePr/>
          <p:nvPr/>
        </p:nvGraphicFramePr>
        <p:xfrm>
          <a:off x="839880" y="1440000"/>
          <a:ext cx="9523440" cy="537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9880" y="1440000"/>
                    <a:ext cx="95234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371160" y="5713560"/>
            <a:ext cx="585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CurrentMember,Measures.Sales)</a:t>
            </a:r>
            <a:br>
              <a:rPr sz="2000"/>
            </a:b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 + (Measures.YTD,Time.CurrentMember.Prevmemb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3" name="TimeSm" descr=""/>
          <p:cNvPicPr/>
          <p:nvPr/>
        </p:nvPicPr>
        <p:blipFill>
          <a:blip r:embed="rId4"/>
          <a:stretch/>
        </p:blipFill>
        <p:spPr>
          <a:xfrm>
            <a:off x="7543800" y="0"/>
            <a:ext cx="1600200" cy="150336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3657600" y="2057400"/>
            <a:ext cx="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4760" y="5711760"/>
            <a:ext cx="43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b7"/>
                </a:solidFill>
                <a:latin typeface="Times New Roman"/>
                <a:ea typeface="굴림"/>
              </a:rPr>
              <a:t>Sum(YTD(Time.CurrentMember),Sal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5040" y="47242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Mar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5400" y="40384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Feb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55040" y="335268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  <a:ea typeface="굴림"/>
              </a:rPr>
              <a:t>Time.Jan,Measures.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681200" y="5357880"/>
            <a:ext cx="493560" cy="242640"/>
            <a:chOff x="1681200" y="5357880"/>
            <a:chExt cx="493560" cy="242640"/>
          </a:xfrm>
        </p:grpSpPr>
        <p:sp>
          <p:nvSpPr>
            <p:cNvPr id="880" name=""/>
            <p:cNvSpPr/>
            <p:nvPr/>
          </p:nvSpPr>
          <p:spPr>
            <a:xfrm>
              <a:off x="1681200" y="535788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81200" y="5510160"/>
              <a:ext cx="493560" cy="90360"/>
            </a:xfrm>
            <a:prstGeom prst="rect">
              <a:avLst/>
            </a:prstGeom>
            <a:solidFill>
              <a:srgbClr val="fca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1678320" y="3581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78320" y="42670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Times New Roman"/>
                <a:ea typeface="굴림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95760" y="1135080"/>
            <a:ext cx="7225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YT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당해년 초부터의 누적 판매실적은 어떠하였는가</a:t>
            </a:r>
            <a:r>
              <a:rPr b="1" lang="ko-KR" sz="3200" spc="-1" strike="noStrike">
                <a:solidFill>
                  <a:srgbClr val="fca304"/>
                </a:solidFill>
                <a:latin typeface="Arial"/>
                <a:ea typeface="굴림"/>
              </a:rPr>
              <a:t>?</a:t>
            </a:r>
            <a:r>
              <a:rPr b="0" lang="ko-KR" sz="3200" spc="-1" strike="noStrike">
                <a:solidFill>
                  <a:srgbClr val="ffffb7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125360" y="374760"/>
            <a:ext cx="70153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Navigating In The Hierarch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(The Family Tree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2225520" y="2733840"/>
            <a:ext cx="4583160" cy="3398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8" name=""/>
          <p:cNvGraphicFramePr/>
          <p:nvPr/>
        </p:nvGraphicFramePr>
        <p:xfrm>
          <a:off x="590400" y="1681200"/>
          <a:ext cx="775368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0400" y="1681200"/>
                    <a:ext cx="775368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"/>
          <p:cNvSpPr/>
          <p:nvPr/>
        </p:nvSpPr>
        <p:spPr>
          <a:xfrm>
            <a:off x="2649600" y="258768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24440" y="1579680"/>
            <a:ext cx="898560" cy="75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59680" y="2563920"/>
            <a:ext cx="89820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00240" y="186372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921280" y="186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8].pa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Parent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6" name=""/>
          <p:cNvGraphicFramePr/>
          <p:nvPr/>
        </p:nvGraphicFramePr>
        <p:xfrm>
          <a:off x="851040" y="1157400"/>
          <a:ext cx="775332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57400"/>
                    <a:ext cx="775332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461960" y="1339920"/>
            <a:ext cx="26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FirstChi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552680" y="3032280"/>
            <a:ext cx="898560" cy="75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"/>
          <p:cNvGraphicFramePr/>
          <p:nvPr/>
        </p:nvGraphicFramePr>
        <p:xfrm>
          <a:off x="851040" y="1160640"/>
          <a:ext cx="7753320" cy="356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1040" y="1160640"/>
                    <a:ext cx="7753320" cy="35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461960" y="133992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ime.[97].Chil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hildre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8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Quart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81040" y="3016080"/>
            <a:ext cx="3687840" cy="811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Session Prerequisites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ional Database Experie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SQL Server 7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ata Warehou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nline Analytical Processing (OLAP)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ubes, Dimensions, Members, Fact Tables, and Dimension T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4" name=""/>
          <p:cNvGraphicFramePr/>
          <p:nvPr/>
        </p:nvGraphicFramePr>
        <p:xfrm>
          <a:off x="843120" y="1154160"/>
          <a:ext cx="7770600" cy="357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4160"/>
                    <a:ext cx="777060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6" name=""/>
          <p:cNvSpPr/>
          <p:nvPr/>
        </p:nvSpPr>
        <p:spPr>
          <a:xfrm>
            <a:off x="2911320" y="2063880"/>
            <a:ext cx="898560" cy="75852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51000" y="1216080"/>
            <a:ext cx="42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97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17400" y="4021200"/>
            <a:ext cx="553896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843120" y="1157400"/>
          <a:ext cx="777060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3120" y="1157400"/>
                    <a:ext cx="777060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2" name=""/>
          <p:cNvSpPr/>
          <p:nvPr/>
        </p:nvSpPr>
        <p:spPr>
          <a:xfrm>
            <a:off x="1535040" y="305100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Q1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400" y="4021200"/>
            <a:ext cx="2751120" cy="828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6" name=""/>
          <p:cNvGraphicFramePr/>
          <p:nvPr/>
        </p:nvGraphicFramePr>
        <p:xfrm>
          <a:off x="844560" y="1157400"/>
          <a:ext cx="7770960" cy="357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157400"/>
                    <a:ext cx="7770960" cy="35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619200" y="4057560"/>
            <a:ext cx="898560" cy="758880"/>
          </a:xfrm>
          <a:prstGeom prst="rect">
            <a:avLst/>
          </a:prstGeom>
          <a:noFill/>
          <a:ln w="28440">
            <a:solidFill>
              <a:srgbClr val="fb79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87360" y="5078520"/>
            <a:ext cx="39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Descendants(Time.[Jan], Month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1200" y="3913200"/>
            <a:ext cx="1109520" cy="10238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Descendants 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Inventory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80880" y="1250640"/>
            <a:ext cx="841536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이전 시점의 재고 자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Dimension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roducts: All Products,  Family, Category, N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Warehouses: All, Ware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ime: Year, Quarter, Mon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8560" indent="-30492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Meas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Quantity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12680" indent="-96840">
              <a:lnSpc>
                <a:spcPct val="80000"/>
              </a:lnSpc>
              <a:spcBef>
                <a:spcPts val="901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Value (SUM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he problem: 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해당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는 이전시점에 대해 적당치 않을 수 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4" name=""/>
          <p:cNvGraphicFramePr/>
          <p:nvPr/>
        </p:nvGraphicFramePr>
        <p:xfrm>
          <a:off x="1257480" y="988920"/>
          <a:ext cx="1028988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7480" y="988920"/>
                    <a:ext cx="1028988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6" name=""/>
          <p:cNvSpPr/>
          <p:nvPr/>
        </p:nvSpPr>
        <p:spPr>
          <a:xfrm>
            <a:off x="3832560" y="398520"/>
            <a:ext cx="51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Problem: Inventory is not an additive value .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7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38" name=""/>
          <p:cNvSpPr txBox="1"/>
          <p:nvPr/>
        </p:nvSpPr>
        <p:spPr>
          <a:xfrm>
            <a:off x="4524480" y="125568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465800" y="158580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18000" y="2730600"/>
            <a:ext cx="590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4500720" y="507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459320" y="3906720"/>
            <a:ext cx="590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85920" y="228240"/>
            <a:ext cx="7449840" cy="586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a304"/>
                </a:solidFill>
                <a:latin typeface="Arial"/>
                <a:ea typeface="굴림"/>
              </a:rPr>
              <a:t>Inventory …….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s…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41536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평균 수량과 재고량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기초 기말 값의 적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각 기간별 최고 최저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Level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을 표현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25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재고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굴림"/>
              </a:rPr>
              <a:t>item</a:t>
            </a:r>
            <a:r>
              <a:rPr b="1" lang="ko-KR" sz="3000" spc="-1" strike="noStrike">
                <a:solidFill>
                  <a:srgbClr val="ffffff"/>
                </a:solidFill>
                <a:latin typeface="Arial"/>
                <a:ea typeface="굴림"/>
              </a:rPr>
              <a:t>의 분담량을 전체 재고량으로 처리시 문제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82680" y="3994200"/>
            <a:ext cx="82864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Avg( Descendants([Time].CurrentMember,[Month]), Quant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618920" y="1243080"/>
            <a:ext cx="45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기간의 각월 수량 합계를 기간의 월수로 나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114120" y="2165400"/>
            <a:ext cx="654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 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months in the perio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89520" y="3079800"/>
            <a:ext cx="851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Sum (Descendants([Time].CurrentMember,[Month])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Quantity)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굴림"/>
              </a:rPr>
              <a:t>Count(Descendants([Time].CurrentMember,[Month]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Average Over Tim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Closing Balance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-423720" y="1251000"/>
            <a:ext cx="68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-969840" y="2165400"/>
            <a:ext cx="109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month in the months contained in th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74040" y="3079800"/>
            <a:ext cx="674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Quantity of the last item 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(Descendants([Time].CurrentMember, [Month]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2240" y="3994200"/>
            <a:ext cx="75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Tail(Descendants([Time].CurrentMember, [Month]),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75120" y="4908600"/>
            <a:ext cx="566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Measures.Quantity,  ClosingPeriod([Month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7" name=""/>
          <p:cNvGraphicFramePr/>
          <p:nvPr/>
        </p:nvGraphicFramePr>
        <p:xfrm>
          <a:off x="2133720" y="1092240"/>
          <a:ext cx="10293120" cy="558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1092240"/>
                    <a:ext cx="1029312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9" name="inventory" descr=""/>
          <p:cNvPicPr/>
          <p:nvPr/>
        </p:nvPicPr>
        <p:blipFill>
          <a:blip r:embed="rId4"/>
          <a:srcRect l="0" t="0" r="52088" b="67855"/>
          <a:stretch/>
        </p:blipFill>
        <p:spPr>
          <a:xfrm>
            <a:off x="6402240" y="5029200"/>
            <a:ext cx="2741760" cy="1380960"/>
          </a:xfrm>
          <a:prstGeom prst="rect">
            <a:avLst/>
          </a:prstGeom>
          <a:ln w="0">
            <a:noFill/>
          </a:ln>
        </p:spPr>
      </p:pic>
      <p:sp>
        <p:nvSpPr>
          <p:cNvPr id="960" name=""/>
          <p:cNvSpPr/>
          <p:nvPr/>
        </p:nvSpPr>
        <p:spPr>
          <a:xfrm flipH="1" flipV="1">
            <a:off x="5790600" y="1523160"/>
            <a:ext cx="609480" cy="1219320"/>
          </a:xfrm>
          <a:custGeom>
            <a:avLst/>
            <a:gdLst>
              <a:gd name="textAreaLeft" fmla="*/ 81360 w 609480"/>
              <a:gd name="textAreaRight" fmla="*/ 528120 w 609480"/>
              <a:gd name="textAreaTop" fmla="*/ 234000 h 1219320"/>
              <a:gd name="textAreaBottom" fmla="*/ 862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8" stAng="-5400000" swAng="-5400000"/>
                <a:lnTo>
                  <a:pt x="0" y="11132"/>
                </a:lnTo>
                <a:arcTo wR="21600" hR="8308" stAng="10800000" swAng="-2220396"/>
                <a:lnTo>
                  <a:pt x="11782" y="20692"/>
                </a:lnTo>
                <a:lnTo>
                  <a:pt x="21600" y="18028"/>
                </a:lnTo>
                <a:lnTo>
                  <a:pt x="11782" y="13548"/>
                </a:lnTo>
                <a:lnTo>
                  <a:pt x="11782" y="15708"/>
                </a:lnTo>
                <a:arcTo wR="21600" hR="8308" stAng="8579604" swAng="1992685"/>
                <a:lnTo>
                  <a:pt x="314" y="9720"/>
                </a:lnTo>
                <a:arcTo wR="21600" hR="8308" stAng="-10572289" swAng="5172289"/>
                <a:close/>
              </a:path>
              <a:path fill="darkenLess" w="21600" h="21600">
                <a:moveTo>
                  <a:pt x="21600" y="0"/>
                </a:moveTo>
                <a:arcTo wR="21600" hR="8308" stAng="-5400000" swAng="-5400000"/>
                <a:lnTo>
                  <a:pt x="0" y="8308"/>
                </a:lnTo>
                <a:arcTo wR="21600" hR="8308" stAng="10800000" swAng="-227711"/>
                <a:lnTo>
                  <a:pt x="314" y="9720"/>
                </a:lnTo>
                <a:arcTo wR="21600" hR="8308" stAng="-10572289" swAng="5172289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5181480" y="1523880"/>
            <a:ext cx="564840" cy="3904200"/>
            <a:chOff x="5181480" y="1523880"/>
            <a:chExt cx="564840" cy="3904200"/>
          </a:xfrm>
        </p:grpSpPr>
        <p:sp>
          <p:nvSpPr>
            <p:cNvPr id="962" name=""/>
            <p:cNvSpPr/>
            <p:nvPr/>
          </p:nvSpPr>
          <p:spPr>
            <a:xfrm>
              <a:off x="5182200" y="152388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182200" y="2743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9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182200" y="38862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7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1480" y="5029200"/>
              <a:ext cx="56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3300"/>
                  </a:solidFill>
                  <a:latin typeface="Times New Roman"/>
                  <a:ea typeface="굴림"/>
                </a:rPr>
                <a:t>10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 flipH="1" flipV="1">
            <a:off x="5867280" y="837360"/>
            <a:ext cx="1828800" cy="533412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150560 h 5334120"/>
              <a:gd name="textAreaBottom" fmla="*/ 3624840 h 533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18" stAng="-5400000" swAng="-5400000"/>
                <a:lnTo>
                  <a:pt x="0" y="10019"/>
                </a:lnTo>
                <a:arcTo wR="21600" hR="9318" stAng="10800000" swAng="-3758061"/>
                <a:lnTo>
                  <a:pt x="16893" y="21376"/>
                </a:lnTo>
                <a:lnTo>
                  <a:pt x="21600" y="18987"/>
                </a:lnTo>
                <a:lnTo>
                  <a:pt x="16893" y="16149"/>
                </a:lnTo>
                <a:lnTo>
                  <a:pt x="16893" y="18412"/>
                </a:lnTo>
                <a:arcTo wR="21600" hR="9318" stAng="7041939" swAng="3702243"/>
                <a:lnTo>
                  <a:pt x="15" y="9669"/>
                </a:lnTo>
                <a:arcTo wR="21600" hR="9318" stAng="-10744182" swAng="5344182"/>
                <a:close/>
              </a:path>
              <a:path fill="darkenLess" w="21600" h="21600">
                <a:moveTo>
                  <a:pt x="21600" y="0"/>
                </a:moveTo>
                <a:arcTo wR="21600" hR="9318" stAng="-5400000" swAng="-5400000"/>
                <a:lnTo>
                  <a:pt x="0" y="9318"/>
                </a:lnTo>
                <a:arcTo wR="21600" hR="9318" stAng="10800000" swAng="-55818"/>
                <a:lnTo>
                  <a:pt x="15" y="9669"/>
                </a:lnTo>
                <a:arcTo wR="21600" hR="9318" stAng="-10744182" swAng="5344182"/>
                <a:close/>
              </a:path>
            </a:pathLst>
          </a:custGeom>
          <a:solidFill>
            <a:srgbClr val="fb796b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3280" y="121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666ff"/>
                </a:solidFill>
                <a:latin typeface="Times New Roman"/>
                <a:ea typeface="굴림"/>
              </a:rPr>
              <a:t>1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123280" y="64612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Inventory,ClosingPeriod(Month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87000" y="226800"/>
            <a:ext cx="7473960" cy="11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Closing Period Inventory Value…</a:t>
            </a:r>
            <a:endParaRPr b="1" lang="en-US" sz="4000" spc="-1" strike="noStrike">
              <a:solidFill>
                <a:srgbClr val="fca304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431200" cy="140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Maximum Inventory Level In A Time Spa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87360" y="2430000"/>
            <a:ext cx="651672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Maximum Inventory Value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2680" y="2714760"/>
            <a:ext cx="7905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ax(Descendants(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Time.CurrentMember,Time.Month)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Business Problem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2680" y="125064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자는 방대한 데이터의 정보로 부터 신속하고 의미있는 자료를 제공받고 정확한 의사 결정을 할수 있기를 원한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합계된 데이터로 모든 분석이 가능한것은 아니다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과거 재고자료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성장율 등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elative Contrib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87360" y="1676160"/>
            <a:ext cx="765504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76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 Contribution to Total]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82680" y="2743200"/>
            <a:ext cx="7162560" cy="27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 /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easures.[Value]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Products.[All]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Warehouse.[All Warehouse]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Ranking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82680" y="124308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ategory</a:t>
            </a:r>
            <a:r>
              <a:rPr b="0" i="1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내에서 각 상품의 판매 순위</a:t>
            </a:r>
            <a:r>
              <a:rPr b="0" lang="ko-KR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Rank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-718920" y="2165400"/>
            <a:ext cx="920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current product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 ordered by sa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-325440" y="3079800"/>
            <a:ext cx="855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r>
              <a:rPr b="0" lang="en-US" sz="2800" spc="-1" strike="noStrike">
                <a:solidFill>
                  <a:srgbClr val="fca304"/>
                </a:solidFill>
                <a:latin typeface="Monotype Corsiva"/>
                <a:ea typeface="굴림"/>
              </a:rPr>
              <a:t>other products on its category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2680" y="3994200"/>
            <a:ext cx="876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ank(Products.CurrentMember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rder(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Products.CurrentMember.Parent.Childre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Sales))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2680" y="380880"/>
            <a:ext cx="777240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Questions &amp; Answer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2"/>
          <a:stretch/>
        </p:blipFill>
        <p:spPr>
          <a:xfrm>
            <a:off x="2101680" y="1768320"/>
            <a:ext cx="4962600" cy="265428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2209680" y="4632480"/>
            <a:ext cx="550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a304"/>
                </a:solidFill>
                <a:latin typeface="Arial"/>
                <a:ea typeface="굴림"/>
              </a:rPr>
              <a:t>WWW.VBSQL.CO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signou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0" y="2647800"/>
            <a:ext cx="914400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08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500" spc="-1" strike="noStrike">
                <a:solidFill>
                  <a:srgbClr val="ffffff"/>
                </a:solidFill>
                <a:latin typeface="굴림"/>
                <a:ea typeface="굴림"/>
              </a:rPr>
              <a:t>Where do you want to go today?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6" name="ddlogo" descr=""/>
          <p:cNvPicPr/>
          <p:nvPr/>
        </p:nvPicPr>
        <p:blipFill>
          <a:blip r:embed="rId3"/>
          <a:stretch/>
        </p:blipFill>
        <p:spPr>
          <a:xfrm>
            <a:off x="6438960" y="5657760"/>
            <a:ext cx="2419200" cy="9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360" y="228600"/>
            <a:ext cx="7562880" cy="75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The Microsoft Solution</a:t>
            </a:r>
            <a:endParaRPr b="1" lang="en-US" sz="48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680" y="1251000"/>
            <a:ext cx="77724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Extend the Data Services with OL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aster que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nsistent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19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의사결정을 위한 복잡한 질의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MDX</a:t>
            </a:r>
            <a:r>
              <a:rPr b="1" lang="ko-KR" sz="3200" spc="-1" strike="noStrike">
                <a:solidFill>
                  <a:srgbClr val="ffffff"/>
                </a:solidFill>
                <a:latin typeface="Arial"/>
                <a:ea typeface="굴림"/>
              </a:rPr>
              <a:t>를 통해 해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복잡한 공식을 해결하기 위한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Function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제공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1480" indent="-45720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편리성 제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pic>
        <p:nvPicPr>
          <p:cNvPr id="102" name="top" descr=""/>
          <p:cNvPicPr/>
          <p:nvPr/>
        </p:nvPicPr>
        <p:blipFill>
          <a:blip r:embed="rId2"/>
          <a:srcRect l="15790" t="28339" r="7370" b="0"/>
          <a:stretch/>
        </p:blipFill>
        <p:spPr>
          <a:xfrm>
            <a:off x="1395360" y="2352600"/>
            <a:ext cx="6454800" cy="380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070040" y="306972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xtern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2280" y="256932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Legacy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03880" y="2074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5320" y="326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4600" y="47732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Ric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The Development Model for Window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2680" y="1525320"/>
            <a:ext cx="845640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omputing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단순화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분산된 계층간의 통합되고 혁신적인 상호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여러 계층에서 같은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bject mode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유용하고 다양한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Tool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Language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의 혼합 사용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9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전체적인 접근방법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(Holistic approch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top%20(2)" descr=""/>
          <p:cNvPicPr/>
          <p:nvPr/>
        </p:nvPicPr>
        <p:blipFill>
          <a:blip r:embed="rId2"/>
          <a:srcRect l="14517" t="27055" r="6843" b="0"/>
          <a:stretch/>
        </p:blipFill>
        <p:spPr>
          <a:xfrm>
            <a:off x="4552920" y="3807000"/>
            <a:ext cx="4294080" cy="2516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opdata" descr=""/>
          <p:cNvPicPr/>
          <p:nvPr/>
        </p:nvPicPr>
        <p:blipFill>
          <a:blip r:embed="rId2"/>
          <a:stretch/>
        </p:blipFill>
        <p:spPr>
          <a:xfrm>
            <a:off x="6473880" y="138240"/>
            <a:ext cx="2381040" cy="1390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81960" cy="124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a304"/>
                </a:solidFill>
                <a:latin typeface="Arial"/>
                <a:ea typeface="굴림"/>
              </a:rPr>
              <a:t>Windows DNA</a:t>
            </a:r>
            <a:br>
              <a:rPr sz="4800"/>
            </a:br>
            <a:r>
              <a:rPr b="1" lang="en-US" sz="3600" spc="-1" strike="noStrike">
                <a:solidFill>
                  <a:srgbClr val="00e9e4"/>
                </a:solidFill>
                <a:latin typeface="Arial"/>
                <a:ea typeface="굴림"/>
              </a:rPr>
              <a:t>Data Services</a:t>
            </a:r>
            <a:endParaRPr b="1" lang="en-US" sz="3600" spc="-1" strike="noStrike">
              <a:solidFill>
                <a:srgbClr val="fca30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7360" y="1887120"/>
            <a:ext cx="777240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ADO:  </a:t>
            </a:r>
            <a:r>
              <a:rPr b="1" lang="ko-KR" sz="2800" spc="-1" strike="noStrike">
                <a:solidFill>
                  <a:srgbClr val="ffffff"/>
                </a:solidFill>
                <a:latin typeface="Arial"/>
                <a:ea typeface="굴림"/>
              </a:rPr>
              <a:t>통일되고 단순한 접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OLE DB:  universal data provi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2480" indent="-582480">
              <a:lnSpc>
                <a:spcPct val="80000"/>
              </a:lnSpc>
              <a:spcBef>
                <a:spcPts val="1049"/>
              </a:spcBef>
              <a:buClr>
                <a:srgbClr val="fca3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XML: standards-based 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representation and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981080"/>
            <a:ext cx="7707600" cy="4674960"/>
            <a:chOff x="1143000" y="1981080"/>
            <a:chExt cx="7707600" cy="4674960"/>
          </a:xfrm>
        </p:grpSpPr>
        <p:pic>
          <p:nvPicPr>
            <p:cNvPr id="115" name="data" descr=""/>
            <p:cNvPicPr/>
            <p:nvPr/>
          </p:nvPicPr>
          <p:blipFill>
            <a:blip r:embed="rId3"/>
            <a:stretch/>
          </p:blipFill>
          <p:spPr>
            <a:xfrm>
              <a:off x="1143000" y="1981080"/>
              <a:ext cx="7326360" cy="46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97280" y="2237040"/>
              <a:ext cx="145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ainfra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60920" y="2962800"/>
              <a:ext cx="129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Direc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97560" y="370404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RDBM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4640" y="4256280"/>
              <a:ext cx="15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Email &amp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messag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51400" y="498204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굴림"/>
                </a:rPr>
                <a:t>File syste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50200" y="4835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41840" y="536436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OLE D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9360" y="5060520"/>
              <a:ext cx="988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6480" y="5052600"/>
              <a:ext cx="690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4485960"/>
              <a:ext cx="0" cy="593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56040" y="5616360"/>
              <a:ext cx="739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63960" y="5424120"/>
              <a:ext cx="0" cy="211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14800" y="5595840"/>
              <a:ext cx="567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9720" y="474156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9960" y="34768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굴림"/>
                </a:rPr>
                <a:t>X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8840" y="3693960"/>
              <a:ext cx="466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802120" y="3678120"/>
              <a:ext cx="4680" cy="330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70280" y="3684240"/>
              <a:ext cx="1119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3520" y="3688920"/>
              <a:ext cx="0" cy="87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24T22:02:54Z</dcterms:created>
  <dc:creator>Ellen Moos</dc:creator>
  <dc:description/>
  <dc:language>en-US</dc:language>
  <cp:lastModifiedBy>Woo Choul Woong</cp:lastModifiedBy>
  <cp:lastPrinted>1999-06-07T20:17:19Z</cp:lastPrinted>
  <dcterms:modified xsi:type="dcterms:W3CDTF">1999-10-20T02:35:28Z</dcterms:modified>
  <cp:revision>293</cp:revision>
  <dc:subject/>
  <dc:title>Slide Title</dc:title>
</cp:coreProperties>
</file>