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E8DC-79D1-477B-8E4F-CDBBE85FF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320E-1E3D-424E-95DA-48C4A5373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A77E-BFEC-4F7C-A698-D72AE0273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417B-AF5C-498D-8303-622AE6773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5F6F6-0E31-4FB8-9F6C-A8176112A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21D82-5F8D-4A3F-9738-BF6BA97A2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C67C5-8FDA-4495-BDC1-DF5C91081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79183-0C28-4924-B6B9-78FA5338C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D30BC-E821-4674-9E39-D924E1737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94FE9-BEF5-4C32-A1DE-09818FD8E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8691A-B908-4CA2-9F15-8EB09703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2EB4-7D4F-4CEE-AFF6-BC977BDAD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6D7D5-7A35-4F5A-B68D-A8A529CC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3E88F-E204-4A92-B8E4-4B351CC1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F4478-F2EC-4E30-BD6B-C5D9F0FED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9C4A9-B9E6-48EA-84A6-80955D8B2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FC735-0CF3-4ADF-AC64-47BC248E9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3AD5-102F-4F16-B706-F6AA10D3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5DCF-1C7F-470D-9B27-2DA52444F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D908-CECC-4D39-AFE8-2238435F7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E3D9-0EFF-4E02-8919-73197FB2F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D678-C492-4025-A826-85419914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1DB8-D2B9-4638-B3A1-6B8126F8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7776-A4AB-487C-921C-A083B7A3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D730A-00A0-484E-9805-898CB12D0B70}" type="datetime3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2026년 7월 30일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691A7-8755-45A9-A8ED-48716E12F371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DE039-33E3-46B1-B5A4-C5CAB9C4F7D6}" type="datetime3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2026년 7월 30일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E63BB-F38F-4D76-B11A-9C6C88447CDB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제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6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장</a:t>
            </a:r>
            <a:br>
              <a:rPr sz="5400"/>
            </a:b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의 관리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굴림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4952520"/>
            <a:ext cx="8305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ong Soo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park@cs.sungshin.ac.k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530D-B671-4DD9-B4FA-90D64C6C5FE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15CA4C-DCF9-4576-819E-602F293D60C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W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Secur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어플리케이션의 최소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퍼포먼스의 최적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능 축소 방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보안 계층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ecurity hierarchy)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설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조직별 보안 관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품목별 보안 관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9FE0-037F-4415-A026-E7F7A8E897E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C7816A-0CDF-4BFD-83D5-826292DC425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의 관리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추출과 로드의 자동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요약과정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ummary process)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자동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와 보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D2C5-2EB9-496F-BF81-55A08FAA7BE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1197A7-2D04-457C-B963-B77CF06CB8C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1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의 추출과 로드의 자동화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소스 시스템에서 데이터를 추출하는 과정이 복잡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여러 문제점이 발생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일련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TT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과정을 자동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xtraction, Transformation, Transpor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필요 시점에 원하는 데이터를 가져온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가 정확히 반영되어 원하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erformance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무결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ata integrity)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이 보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9C9D-7CD2-4BD5-8CAA-A0A37454E5B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2BD98B-0E94-47F7-B283-76D46A13A948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추출을 자동화하는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aem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추출은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tch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로 장시간의 작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상적인 작업인지를 통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작업 진행 상화 확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TT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위한 필요 정보를 메타 테이블에 보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A59E-088F-4516-A4EA-87B3B8BCF54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FAC9BE-2EB8-4473-BB3D-BF9A4C6096C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구축 내용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주제 영역별 필요 작업 정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필요 작업별로 모듈화 하는 것이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TT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자동화 첫걸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예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수주 사실 테이블에 대한 데이터를 추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월별 테이블 생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월별 테이블 삭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일별 증분 데이터 반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제약 사항 추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erformance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요인 추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각 모듈별 프로그램 작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job queue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에 등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950E-7C2F-4A99-B457-47A79F589EC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78890E-6AE6-4E69-86C9-01A53F224D2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2.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Summary process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자동화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구축하는 목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원하는 시점에 원하는 데이터를 빠르게 제공함으로써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의사결정을 지원하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시간이 경과함에 따라 데이터 양이 증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현실적으로 대량의 데이터를 온라인으로 처리하는 것은 불가능하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기본적인 데이터 양이 줄어들면 가능하다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처리하는 데이터의 크기를 줄이는 요약기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요약 테이블은 데이터 무결성 문제를 야기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erformanc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위해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요약 테이블을 자동 생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관리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27AE-24EB-49E6-B845-43AFF84AEF7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C12C35-48AC-448C-AE4C-9A04A58A3AD8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요약 테이블 관리의 요건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전체 시스템에서 데이터의 정합성을 보장하기는 아주 어렵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문제점 해결을 위한 기본 개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요약 테이블 생성에 대한 부담 감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요약 테이블 삭제에 대한 부담 감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요약 테이블 생성의 최적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요약 테이블의 무결성 보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확장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7AE3-36DB-47AC-A236-3A0E8748B50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BFB36A-4ABA-44BC-8BBE-35D24D88D1D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요약 관리를 위한 메타 데이터 설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신속 정확한 요약 과정을 위하여 별도의 메타 데이터 설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메타 데이터는 데이터의 일치성 보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효과적 업데이트 및 확장성 보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요약 메타 데이터 설계에 대한 가장 기본적인 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요약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aste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생성 일자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 반영 일자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요약 생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QL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BB94-A13F-4039-87C6-F45174104AF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299B92-8F2B-4C2C-B677-097D305C784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3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와 보안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서 산출되는 데이터는 의사결정의 토대가 되는 기본 정보이므로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누출 방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효과적인 의사결정 정보의 산출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이에 대한 보안도 중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사용자는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한정된 범위 내에서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 데이터를 이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5116-D2B1-405D-89AB-EB171B610FF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868305-5EF3-4BCE-853B-5145EA3E03A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ong Soo Park</dc:creator>
  <dc:description/>
  <dc:language>en-US</dc:language>
  <cp:lastModifiedBy>Jong Soo Park</cp:lastModifiedBy>
  <cp:lastPrinted>1999-09-10T20:38:56Z</cp:lastPrinted>
  <dcterms:modified xsi:type="dcterms:W3CDTF">2002-05-14T03:38:49Z</dcterms:modified>
  <cp:revision>232</cp:revision>
  <dc:subject/>
  <dc:title>제6장 데이터 웨어하우스의 관리</dc:title>
</cp:coreProperties>
</file>