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99A-B6CF-46A1-9012-0C451215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A47-1A53-4D86-B4B9-22FD2858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136-A9E0-4B87-A4FC-E6A0E6D0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841-C2AD-4AEE-9118-78182747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3259-D31A-4CA9-889D-13FE8478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E4C5-E5A6-42DE-A2C0-5F7C1CC3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C89C-521D-4A99-A4DF-6C60E04F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1950-0E1E-4E31-A7E2-DF26F7EC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275E-0889-4A57-B466-01C81E9C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9BAE-2812-4153-874A-A481525D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4E00-4193-4146-96D2-E919BA07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A8E-1358-47ED-B166-47A2B857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FBDE-11F2-4546-B9F4-C521ED50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482B-4028-4A36-BA15-28B4D3ED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6630-6702-4FAA-90F5-1C300F73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5F81-4154-4586-8B85-F1E1A2BE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337E-EB85-4E03-8318-AD3D98FB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313-9292-4779-93DC-97565987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A84-812E-4A45-A6D7-4456D077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89D-0CF4-46CB-8C54-93C383A2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2C5-DDF9-4C85-89B5-E4695AE1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AA05-42CA-43D2-AD0A-CB99A347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663-DBCB-4365-9BDF-4193F4FD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B7E-C00B-4B60-880E-E0BD9E79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63D2-F32B-47CE-B90B-4ABB6F3A4641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80C6-3232-4313-B2FC-FB93DF309820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0FFE-AA8F-4BD1-AFEB-A340F0654C0F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1EDD-3A18-44F5-AEE3-6E73A27A530D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위한 데이터베이스 설계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기본요건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5B9-7230-4566-A338-DDF69590DEB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AD926-F637-46B6-901B-B4EE087328C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신뢰할 수 있는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있는 해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번째 중요한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일괄 형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tch format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으로 적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클린징 또는 변환 과정이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결성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형 스키마에 함축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 키 외부 키 참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imary key foreign key 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결합 경로의 명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543-AB30-40B6-97F5-8A34156B26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166FD-5DE7-413D-A8E1-276E6A3B2AB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9_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494-1D1E-4E66-B28F-1946AC065F2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8A4BE-7705-4B23-AD55-C25825C7BEC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회 처리 속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세 번째 중요한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분석가들의 조회를 신속히 처리하고 그들의 사고 흐름을 따라잡을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안정된 고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ko-KR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 시에 고려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표 열 위에 구축된 색인의 유형과 색인 수의 함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 차원 표의 모든 열마다 색인을 붙이는 것이 훌륭한 전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차원에 대해 각기  다른 유형의 색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837-2250-47CD-9F01-E67D6E6C59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D1A8F-E8E5-4F08-A659-CF07C6D25D9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적재 처리와 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번째 중요한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설계에서 더 결정적인 측정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에서 웨어하우스로 데이터를 적재하는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몇 시간 대 며칠의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재 속도는 웨어하우스 설계의 다른 기본 원칙을 고수하면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시 성형 스키마 스타일 단순성의 원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 구조의 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깨끗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 등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81F-28AE-4814-8DE6-A6E7CA36E7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036C4-4F05-4972-90D9-7CF1465C6C2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의 갖가지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스키마의 점증하는 복잡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ulti-fact star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9C4-C8E8-440D-B5FC-28A0EFBAB26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4C493-2068-44EE-91F2-1262DCAF48E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utboard T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외부 키 참조를 통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rigger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라 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 차원에 너무 많은 부담을 주게 될 데이터를 격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 단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4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3A3-5E5F-44DA-BBA3-FD3F43FFE12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8CE17-8543-4D73-9A67-81CD0FE805E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9_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605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CF0-72D7-4222-B5B0-DD7F67FA922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C92DF-33E5-49E6-ABC6-31073F70272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 표 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치 체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기업 전반에 걸쳐 종종 가치 체인의 부분들을 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조직체를 통틀어 제품 또는 서비스의 흐름을 반영하는 일련의 연결된 업무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공유 차원들을 갖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사실 “군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family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다음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342-89E1-4FD5-A78A-D7BB0DA5E6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B140B-7D10-414D-B8F1-8476006F84B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9_5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696080" cy="659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CE2-006A-45AB-B2A0-9F532714877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80BC4-0139-4F7F-9C4B-ECED85BD51A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다성형 사실 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 키의 어떤 조합이 사실 표에서 둘 이상의 행을 가리킬 경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lti-star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6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806-DD0C-457B-8BA8-2C2DD56CEE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A2147-491C-4892-86EE-889BD609C74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9 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설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본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가지 규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간단하게 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em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시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속도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조회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자 데이터 적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변경되지 않고 무결성이 엄격히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5AF-842D-49CB-85F6-C578A914B1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7A079-E2B4-42DE-81E6-1485CFBEFDC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9_6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653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1DD-62D7-44A1-9D9D-86F3FED5975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6922C-BC00-4D80-9F76-09A544DB994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onceptual Modeling of Data Warehou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odeling data warehouses: dimensions &amp;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tar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fact table in the middle connected to a set of dimension tabl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nowflake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refinement of star schema where some dimensional hierarchy i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normalized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 into a set of smaller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forming a shape similar to snowfl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Fact constella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Multiple fact tables share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viewed as a collection of stars, therefore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galaxy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or fact constel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B82-EC19-4BB3-8ED5-910D7ABF7F3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46948-57A3-40D5-B4FB-A3C42605EF4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tar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419880" y="1676160"/>
            <a:ext cx="24955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548160" y="31622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40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06360" y="3867120"/>
            <a:ext cx="1902600" cy="1873800"/>
            <a:chOff x="6606360" y="3867120"/>
            <a:chExt cx="1902600" cy="1873800"/>
          </a:xfrm>
        </p:grpSpPr>
        <p:sp>
          <p:nvSpPr>
            <p:cNvPr id="143" name=""/>
            <p:cNvSpPr/>
            <p:nvPr/>
          </p:nvSpPr>
          <p:spPr>
            <a:xfrm>
              <a:off x="6606360" y="4276800"/>
              <a:ext cx="1902600" cy="1464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06720" y="386712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448800" y="227952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48160" y="26971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74320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76600" y="319248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48160" y="36273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6240" y="363852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48160" y="40910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75160" y="411480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48160" y="455616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5880" y="460692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48160" y="502128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76240" y="50515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48160" y="548640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57880" y="549756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5905440"/>
            <a:ext cx="121932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47811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52560" y="53240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752560" y="56926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28840" y="39495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4356000"/>
            <a:ext cx="1040040" cy="3873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580000" y="2709360"/>
            <a:ext cx="1077840" cy="677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13200" y="1603080"/>
            <a:ext cx="1431720" cy="1910880"/>
            <a:chOff x="6613200" y="1603080"/>
            <a:chExt cx="1431720" cy="1910880"/>
          </a:xfrm>
        </p:grpSpPr>
        <p:sp>
          <p:nvSpPr>
            <p:cNvPr id="168" name=""/>
            <p:cNvSpPr/>
            <p:nvPr/>
          </p:nvSpPr>
          <p:spPr>
            <a:xfrm>
              <a:off x="6613200" y="2049840"/>
              <a:ext cx="143172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3440" y="160308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44200" y="3886200"/>
            <a:ext cx="1499760" cy="1383120"/>
            <a:chOff x="844200" y="3886200"/>
            <a:chExt cx="1499760" cy="1383120"/>
          </a:xfrm>
        </p:grpSpPr>
        <p:sp>
          <p:nvSpPr>
            <p:cNvPr id="171" name=""/>
            <p:cNvSpPr/>
            <p:nvPr/>
          </p:nvSpPr>
          <p:spPr>
            <a:xfrm>
              <a:off x="9244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42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6DD-78CF-47CF-B134-4F4FA1A09EA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A3BB0-D6F2-4025-B9B0-7A695A11E36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nowflake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317760" y="31050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76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869440" y="3809880"/>
            <a:ext cx="1369800" cy="1321200"/>
            <a:chOff x="5869440" y="3809880"/>
            <a:chExt cx="1369800" cy="1321200"/>
          </a:xfrm>
        </p:grpSpPr>
        <p:sp>
          <p:nvSpPr>
            <p:cNvPr id="179" name=""/>
            <p:cNvSpPr/>
            <p:nvPr/>
          </p:nvSpPr>
          <p:spPr>
            <a:xfrm>
              <a:off x="5870160" y="4215600"/>
              <a:ext cx="1369080" cy="91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9440" y="380988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272400" y="215280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7760" y="263988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1240" y="268596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6560" y="313524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7760" y="357012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5840" y="358128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17760" y="40338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5120" y="405756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7760" y="44989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45480" y="454968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17760" y="496404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5840" y="499428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17760" y="54291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7480" y="54403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5867280"/>
            <a:ext cx="121896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590920" y="4723920"/>
            <a:ext cx="76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571840" y="5267160"/>
            <a:ext cx="788760" cy="5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71840" y="5635800"/>
            <a:ext cx="9046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133720" y="388620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267080"/>
            <a:ext cx="457200" cy="5335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334120" y="2819160"/>
            <a:ext cx="60948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946840" y="1526760"/>
            <a:ext cx="1367640" cy="1910880"/>
            <a:chOff x="5946840" y="1526760"/>
            <a:chExt cx="1367640" cy="1910880"/>
          </a:xfrm>
        </p:grpSpPr>
        <p:sp>
          <p:nvSpPr>
            <p:cNvPr id="204" name=""/>
            <p:cNvSpPr/>
            <p:nvPr/>
          </p:nvSpPr>
          <p:spPr>
            <a:xfrm>
              <a:off x="5946840" y="1973520"/>
              <a:ext cx="136764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56360" y="152676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15600" y="3886200"/>
            <a:ext cx="1499760" cy="1383120"/>
            <a:chOff x="615600" y="3886200"/>
            <a:chExt cx="1499760" cy="1383120"/>
          </a:xfrm>
        </p:grpSpPr>
        <p:sp>
          <p:nvSpPr>
            <p:cNvPr id="207" name=""/>
            <p:cNvSpPr/>
            <p:nvPr/>
          </p:nvSpPr>
          <p:spPr>
            <a:xfrm>
              <a:off x="6958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6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699320" y="1984680"/>
            <a:ext cx="1441080" cy="984960"/>
            <a:chOff x="7699320" y="1984680"/>
            <a:chExt cx="1441080" cy="984960"/>
          </a:xfrm>
        </p:grpSpPr>
        <p:sp>
          <p:nvSpPr>
            <p:cNvPr id="210" name=""/>
            <p:cNvSpPr/>
            <p:nvPr/>
          </p:nvSpPr>
          <p:spPr>
            <a:xfrm>
              <a:off x="7708680" y="2328480"/>
              <a:ext cx="1431720" cy="641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99320" y="1984680"/>
              <a:ext cx="116532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V="1">
            <a:off x="7238880" y="2971440"/>
            <a:ext cx="533520" cy="3049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547040" y="4800600"/>
            <a:ext cx="1712520" cy="1471680"/>
            <a:chOff x="7547040" y="4800600"/>
            <a:chExt cx="1712520" cy="1471680"/>
          </a:xfrm>
        </p:grpSpPr>
        <p:sp>
          <p:nvSpPr>
            <p:cNvPr id="214" name=""/>
            <p:cNvSpPr/>
            <p:nvPr/>
          </p:nvSpPr>
          <p:spPr>
            <a:xfrm>
              <a:off x="7550640" y="5206320"/>
              <a:ext cx="1708920" cy="106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7040" y="4800600"/>
              <a:ext cx="5659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162920" y="5105520"/>
            <a:ext cx="45720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ABCF-4D55-4F55-97C0-1EDC71BCA24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EBDD3-CDD1-4EAA-A4BA-E0E3BDA9336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46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Fact Constel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0481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2200" y="1219320"/>
            <a:ext cx="1631520" cy="1967040"/>
            <a:chOff x="232200" y="1219320"/>
            <a:chExt cx="1631520" cy="1967040"/>
          </a:xfrm>
        </p:grpSpPr>
        <p:sp>
          <p:nvSpPr>
            <p:cNvPr id="220" name=""/>
            <p:cNvSpPr/>
            <p:nvPr/>
          </p:nvSpPr>
          <p:spPr>
            <a:xfrm>
              <a:off x="232560" y="1633680"/>
              <a:ext cx="1631160" cy="15526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200" y="1219320"/>
              <a:ext cx="593640" cy="3668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108760" y="4038480"/>
            <a:ext cx="1712160" cy="1718640"/>
            <a:chOff x="5108760" y="4038480"/>
            <a:chExt cx="1712160" cy="1718640"/>
          </a:xfrm>
        </p:grpSpPr>
        <p:sp>
          <p:nvSpPr>
            <p:cNvPr id="223" name=""/>
            <p:cNvSpPr/>
            <p:nvPr/>
          </p:nvSpPr>
          <p:spPr>
            <a:xfrm>
              <a:off x="5112000" y="4447800"/>
              <a:ext cx="1708920" cy="130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8760" y="4038480"/>
              <a:ext cx="924120" cy="36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740320" y="2133720"/>
            <a:ext cx="170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5909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2666880"/>
            <a:ext cx="160200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312408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5053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3505320"/>
            <a:ext cx="1600200" cy="641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9625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0800" y="3981600"/>
            <a:ext cx="160056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60560" y="4419720"/>
            <a:ext cx="1635120" cy="4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1880" y="4473720"/>
            <a:ext cx="15886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60560" y="48769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2960" y="4917960"/>
            <a:ext cx="159300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60560" y="53341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72080" y="5364000"/>
            <a:ext cx="159624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715000"/>
            <a:ext cx="1219320" cy="366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84400" y="46479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065320" y="51908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065320" y="55594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641600" y="38163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905120" y="2362320"/>
            <a:ext cx="914400" cy="380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42670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95680" y="2743200"/>
            <a:ext cx="762120" cy="525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186520" y="1527480"/>
            <a:ext cx="1293120" cy="1725120"/>
            <a:chOff x="5186520" y="1527480"/>
            <a:chExt cx="1293120" cy="1725120"/>
          </a:xfrm>
        </p:grpSpPr>
        <p:sp>
          <p:nvSpPr>
            <p:cNvPr id="248" name=""/>
            <p:cNvSpPr/>
            <p:nvPr/>
          </p:nvSpPr>
          <p:spPr>
            <a:xfrm>
              <a:off x="5186520" y="1943280"/>
              <a:ext cx="1293120" cy="1309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9240" y="1527480"/>
              <a:ext cx="63180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10320" y="3962520"/>
            <a:ext cx="1279440" cy="1216440"/>
            <a:chOff x="310320" y="3962520"/>
            <a:chExt cx="1279440" cy="1216440"/>
          </a:xfrm>
        </p:grpSpPr>
        <p:sp>
          <p:nvSpPr>
            <p:cNvPr id="251" name=""/>
            <p:cNvSpPr/>
            <p:nvPr/>
          </p:nvSpPr>
          <p:spPr>
            <a:xfrm>
              <a:off x="310320" y="4356360"/>
              <a:ext cx="1279440" cy="82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960" y="3962520"/>
              <a:ext cx="8038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012080" y="24955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6560" y="1581120"/>
            <a:ext cx="20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ing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2080" y="20383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2080" y="2114640"/>
            <a:ext cx="160164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12080" y="257184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2080" y="29527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12080" y="2952720"/>
            <a:ext cx="1600200" cy="366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er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2080" y="34099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07760" y="3429000"/>
            <a:ext cx="159948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from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77160" y="3867120"/>
            <a:ext cx="16351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07760" y="3943440"/>
            <a:ext cx="156420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o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77160" y="43243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09200" y="4365720"/>
            <a:ext cx="158076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77160" y="47815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90840" y="4811760"/>
            <a:ext cx="16300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hi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6629400" y="152352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742840" y="152388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905120" y="152388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6553080" y="2666880"/>
            <a:ext cx="533520" cy="76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248160" y="36576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477120" y="419112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991720" y="32004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618320" y="5410080"/>
            <a:ext cx="1332360" cy="1458720"/>
            <a:chOff x="7618320" y="5410080"/>
            <a:chExt cx="1332360" cy="1458720"/>
          </a:xfrm>
        </p:grpSpPr>
        <p:sp>
          <p:nvSpPr>
            <p:cNvPr id="276" name=""/>
            <p:cNvSpPr/>
            <p:nvPr/>
          </p:nvSpPr>
          <p:spPr>
            <a:xfrm>
              <a:off x="7625520" y="5802840"/>
              <a:ext cx="1325160" cy="1065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8320" y="5410080"/>
              <a:ext cx="8542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8610120" y="4800600"/>
            <a:ext cx="38124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10480" y="32004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866920" y="5790960"/>
            <a:ext cx="175284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1E0-7D32-42FB-B713-BB55FB8CE7F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FC3EE-A5D9-4DFD-97BA-6359194C38C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본적인 설계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일관성과 정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적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적인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비스를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설계는 매우 기본적이 되게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의 의견을 들은 뒤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일관성 있고 가치 있는 정보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3F5-81F5-4C1F-A348-6DECCBE98B1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71F9C-6960-44F7-8A60-FEFCB9349CC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데이터베이스의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지 기본적인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는 간단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깨끗하고 일관성이 있으며 정확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회처리는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를 데이터베이스에 상당히 빠르게 적재할 수 있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563-C6C1-4FC7-81DC-44768A4024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1BC8A-3445-4914-81EA-73186FA18F9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순환적 결합 경로를 가진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OLTP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스키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9_1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49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1C0-3F19-4F87-B89E-28D17394DFC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FF175-E072-440C-98BE-F1209AAB50A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단순성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chema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의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기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이 편리하도록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MIS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원들에게 이익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되도록 설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 개의 표를 결합하는 지정된 경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가의 업무 요건들을 평가 – “차원”을 파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사용되고 있는 보고서들을 분석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집단이 사용하는 “표”를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99"/>
                </a:solidFill>
                <a:latin typeface="Tahoma"/>
                <a:ea typeface="굴림"/>
              </a:rPr>
              <a:t>실제 차원과 업무 자체의 조건에 바탕을 둔 직관적인 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B0F-20B5-4F36-AFC9-EC7939104F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94A9A-1A38-46AC-95E5-EAEA6E1E086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 스키마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순하고 직관적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나의 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St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에 관한 모든 수집된 사실과 숫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별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뾰족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차원들을 설명하는 일군의 표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2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3BC-4CE2-4725-8926-72B258C7CC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617A0-D3ED-4D23-ABC0-77299BECEC2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간단한 성형 스키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9_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54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8A0-7F3A-42A6-89BF-3770CBAA715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73210-0643-47E3-B2BC-56D99D55300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장 규모가 큰 – 수백만 개 또는 수억 개의 행이 포함된 – 중앙에 있는 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측정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업무 값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공간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95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뼈만 추린” 대부분 숫자로 된 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에 저장된 사실들은 분석가가 추적할 필요가 있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실제 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선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약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708-7C51-448E-8389-5EAE0FE7EB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E1FD4-E4DB-48A2-895A-AB83D06AA4C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차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의 “기정 사실”일 가능성이 많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보고서의 행 제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숫자 데이터보다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문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사용하는 경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가 필요로 하는 디스크 공간은 비교적 적게 차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기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품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업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구통계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홍보활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5F9-0167-4BC0-B925-F4BD8A7B51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2FF08-54C9-405C-B2EA-925CFD51E6B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6-03T08:22:04Z</dcterms:modified>
  <cp:revision>301</cp:revision>
  <dc:subject/>
  <dc:title>No Slide Title</dc:title>
</cp:coreProperties>
</file>