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9E9-9208-41C2-BC49-4A5DB4E9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D28-4D17-4136-BC3D-B89007A4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54E-5D61-4ED4-B7F1-8DEB90C5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452-A492-4F3A-93CE-DFA0FBF2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2010-377E-42FD-B0D7-130F7BFE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C85A-558A-4F76-B547-8ABA9EC6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BD76-2A17-4FAB-9C08-E2859A60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FCBE-EE31-433E-AD07-E29A7280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82DC-C71B-47FD-A221-1754B09E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A23C-2CA8-4A2E-B9E1-45320483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1C2E-E2AC-4ACF-A6C1-C9AAC3D8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B104-98BF-407C-B8C0-E0EB0615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0120-3AFC-4653-BECC-19220508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4450-93A4-4CB1-BD98-15C70C3E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6EB1-16FF-4377-A585-BFCFDA2A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A932-32C5-4E69-9CB6-025DC3E9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16DD-B90C-4527-AF2F-03F4745F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926-F1DB-445D-9A3C-B8A6E189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5F4-3A20-4CED-903D-21B84EED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ED3-7ECF-4F64-9A3B-F8E790CF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02B-968F-470F-833B-8D508E9E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07F-FF7E-46F4-91A2-9D7088E1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313-F201-4A6E-B1B3-F8F90042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5462-2648-4D7B-949D-11D20D6F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D2A4-F5A6-4E54-9B3F-E0AC19CDAF5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6B9D-6A9B-48E1-9044-1D5AFB7BB9CF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11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구축 방법론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4F1B-5724-4E36-8562-1D40DBE2836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단계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-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정의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의 목적 선언문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ission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1878-280C-457A-BBD4-C20DAA95771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11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장 구축 방법론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프로젝트 추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프로젝트 추진의 주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선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방법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다른 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Projec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97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천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발견과 발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모든 단계에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문서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845-BBAC-4C16-BA96-59756AFE784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원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안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업이 사용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의 요구 사항이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100%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반영되어야 한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양이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강력한 하드웨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섬세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설계 및 튜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신속한 추출과 로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을 구축해본 경험으로 하면 실패하기 쉽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5A4-A40A-41B6-A8DA-568BDA280E5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프로젝트 추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제트 추진 주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업에서 주도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제일 바람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에서 원하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구축 가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컴퓨터 비전문가로 인한 신기술 도입에 어려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산실에서 주도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대개의 경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파일럿 시스템 구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외국 컨설팅 업체에서 맡길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국내 기술로도 가능하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227-DF36-4ED5-9775-252F10A0975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업무 선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Project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안시 가장 고민하는 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제 영역 선정 작업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민감한 부분을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국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제 영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r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만들기 힘든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영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장표 분석 결과가 운영계 시스템과 일치하지 않는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을 배치 작업으로 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의 정보 가동 방식으로는 전혀 분석할 수 없는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77B-8095-4691-B6DE-2812DA6A2C8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방법이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LT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다른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사용자 수를 기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데이터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보다 약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ardwar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에 오류 가능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실제 데이터로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병목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트워크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서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병목 현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 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현업이 프로젝트의 처음에서 끝까지 참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주인은 현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주인은 전산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70AF-73A9-4B70-9242-1D12A2368ED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 Projec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시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 발주와 도착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에서 설치까지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월 가량 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원시 데이터를 정의하고 초기의 원시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내리는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각보다 시간이 많이 걸린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기존의 운영계 시스템에서 데이터를 맞추는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안 맞을 것이다’라는 자세에서 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를 협의하는 시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많으면 곤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4DC-F912-4B2E-AA0A-CDC67287C2D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방법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모든 단계를 체계적으로 정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밀 지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회사마다 구축 방법론이 다르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projec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 개발과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다른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cyc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갖는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73E-96B3-4FA7-A649-E6066A3232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762120"/>
            <a:ext cx="5638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racle 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 방법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47920" y="1600200"/>
            <a:ext cx="5333760" cy="5016240"/>
            <a:chOff x="1447920" y="1600200"/>
            <a:chExt cx="5333760" cy="5016240"/>
          </a:xfrm>
        </p:grpSpPr>
        <p:sp>
          <p:nvSpPr>
            <p:cNvPr id="117" name=""/>
            <p:cNvSpPr/>
            <p:nvPr/>
          </p:nvSpPr>
          <p:spPr>
            <a:xfrm>
              <a:off x="1447920" y="1600200"/>
              <a:ext cx="52578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정  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7920" y="251604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분  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7920" y="343224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0000"/>
                  </a:solidFill>
                  <a:latin typeface="Tahoma"/>
                  <a:ea typeface="굴림"/>
                </a:rPr>
                <a:t>설  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7920" y="4348080"/>
              <a:ext cx="312408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0000"/>
                  </a:solidFill>
                  <a:latin typeface="Tahoma"/>
                  <a:ea typeface="굴림"/>
                </a:rPr>
                <a:t>구  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47920" y="5221440"/>
              <a:ext cx="312408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천  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47920" y="6095880"/>
              <a:ext cx="533376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발견과 발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4489560" y="389268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문 서 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99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9920" y="5715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213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3048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1800" y="3962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7180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0" y="2819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3733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4572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5486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9E1-F154-4335-BB6B-0C1DD9E3E2B4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6-03T06:11:41Z</dcterms:modified>
  <cp:revision>288</cp:revision>
  <dc:subject/>
  <dc:title>제6장 데이터 웨어하우스의 관리</dc:title>
</cp:coreProperties>
</file>