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EAD-1C49-499C-B52B-CBC5E05C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E8A-0776-4BA3-BE6D-F7F53C9E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BCF-52DE-46A2-93C8-38C84DBD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10C-8F56-49B6-8A73-631FBBD3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0C3A-5FBB-4671-B800-ABBAE163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F877-4B93-4FE6-9E3F-94D3CD6D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06C8-E3FC-4083-B3E5-E4E95282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BF99-BB22-4EB6-91F0-D97D2194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60EE-E5D3-4B7D-AF52-D3383307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ADDD-9F9B-4472-90AC-4CBF9705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9FD6-42D0-4E47-973A-ACAEAD0D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9E0-0721-4129-9660-61551FF3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9F8F-BD5C-4634-94E7-F3DC8C2F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FE1A-E2A1-4D6E-A437-5D536FB2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B042-5D89-4AB9-A174-5BC404E1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AFEC-F94B-410D-ACAA-E7A0379A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716B-1125-4EBB-989F-B0E49308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D6C-C599-4146-A5A3-C6AD6359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5BF-B89C-4F1A-B2C6-05707B85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3AB-808C-4F08-B33D-04DD4A27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66D-9C78-4003-9CDB-9CA67996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7E7-F49A-4EE2-866D-F10ACE32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C70-1FB9-4721-A8B2-BBC963BD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D07-D0E7-4405-B326-3E33CF68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0FAB-12A0-41CF-AB6C-ED09AC176C93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8A47-2D54-4269-BB2E-E40702E99C90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67CD-8DBA-4748-8451-10AF6289FA93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BEDA-9837-4BE4-9B30-4B414C19EF60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3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E18-5D6A-413D-9E1A-0406EBAD03D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8CAD4-B025-4004-BDE0-2F436F07A5C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데이터의 상주 위치 및 계산 위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자 데이터 웨어하우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tomic data wareho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하나의 클라이언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서버 응용 프로그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  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타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D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84F-3790-4B16-82AD-E4699852CE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9082D-62B0-4838-B79D-39707792714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품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을 보장하는 것은 가장 중요한 문제 중의 하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불량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통합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잠재적인 문제점을 인식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값과 같은 일관성 있는 정책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0F7-28E4-42BC-B4E0-EE9C67BCB9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9A2A7-2F88-492B-B3C3-1FBC63CD7FA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이주와 로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이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를 초기화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그것을 갱신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드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전 처리 단계 포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집계 수행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갱신시 수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85D-4C9A-4163-B1D9-CE5A3DB8A9C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54FD5-7FBB-468F-88AF-1F965E0BC38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터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의 다양한 양상을 설명하는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dministrative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nd-user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05A-6B5D-4DDE-8DA7-7D154779AB4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72B39-B3A4-4F39-80AF-0DE9E308395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관리하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cess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 계획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 장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O, CPU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업 사본을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갱신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크플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00C1-38CC-4B15-A6FF-8FD9B09E60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0D394-312C-460C-AB69-7ABFD44D23F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데이터 스토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스토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저장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트랜잭션 데이터베이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계형 또는 비관계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트랜잭션 데이터베이스에서 얻은 사본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계형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측정치의 세부 사항과 합계를 그러한 측정치의 속성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and Dimen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 분석을 위한 속도와 특별 연산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665-0857-4E78-8D11-D861658161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D8F2C-F162-44D5-9D99-5DB2BDC18A2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M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접근 최적자를 가지고 소프트웨어를 개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-m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의 색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저장장치 구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맞게 재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렬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병렬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D31-CE64-481B-8B35-EA888C7FCF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3EE34-0788-4707-B5CA-75C7E11F75C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과 기술의 집합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전체에 걸쳐 분산되었던 정보에 대한 최종 사용자 접근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전문가들과 지식 노동자들의 헌신과 고된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훌륭한 웨어하우스의 이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만족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D07-9721-485A-AF8C-C21CC56CE10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9E44B-C6A4-4A9B-A45E-9D4B6C42868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3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Management Information System since 1950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base Management Systems since 1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rporate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데이터베이스 관리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응용 프로그램을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된 공통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FB0C-48A7-4F23-BC0B-9E08C050C39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27A3B-1857-4F7D-AD7A-C9F3E603EBF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사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표준 보고서와 그래프로 된 프리젠테이션을 위해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분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al analysi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조회 및 보고 유형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가 점점 세부적으로 그리고 다른 차원 관점에서 조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mining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흥미로운 새로운 기술을 가능케 하는 핵심적인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7E6-3F49-49AF-8841-1F8FCBF6C7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E401E-73A3-4A11-808E-D500818BD22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대 트랜잭션 시스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요건과 작동 특성에 있어서 극과 극의 대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 입력 등의 트랜잭션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같은 특정 주제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백 명 – 수천 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아야 이삼백 명 또는 백 명 이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규모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5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B OLTP DB :: TB DW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은 수의 열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 많은 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43E-32D4-480E-9730-8C44E52621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8AAB9-CAEA-4CBD-9A73-4D598F892C8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333399"/>
              </a:solidFill>
              <a:latin typeface="Tahoma"/>
              <a:ea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 데이터를 간직하는 짧은 기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년 전까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갱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속적인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일괄해서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ADB-C68C-4C64-9ADE-36CEB5FC73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EC6BC-EF53-4079-8FC7-491BB5A573C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무엇이 데이터 웨어하우징을 어렵게 만드는가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순전한 크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문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끊임없이 변화하는 요건에 적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 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변경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추가 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낡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삭제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사용자 요구를 만족하도록 끊임없이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뿐만 아니라 여러 출처에서 나온 데이터를 통합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5B8-ADC7-4AA1-97CB-7AA188543B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FEF62-34F4-4A2C-99C8-DC707183FDB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성요소와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성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접근하여 그것을 변형시키는 데이터 이주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설명하는 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속한 데이터 접근을 제공하는 웨어하우스 데이터 스토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식화 및 분석을 위한 도구 모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환경을 관리하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F8A-D7C2-46E1-A584-E83BA0824C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760C2-6132-45E5-9EBB-B1EEEA7C717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 전체에 걸쳐 있는 여러 가지 주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판매량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부동산 또는 직원 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관한 모든 정보를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세분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위 세트 또는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유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리적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CAD-E9FD-4B26-AC7A-956A7FD705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45609-6801-4BD0-A3A6-EA15F2C7A04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 Development: A Recommended Approa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6019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4120" y="6019920"/>
            <a:ext cx="63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Define a high-level corporate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8862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88620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886200"/>
            <a:ext cx="1295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886200"/>
            <a:ext cx="10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053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765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209680"/>
            <a:ext cx="1752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3657600"/>
            <a:ext cx="19810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447920"/>
            <a:ext cx="2438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666880"/>
            <a:ext cx="0" cy="335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76520" y="3200040"/>
            <a:ext cx="10666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00400" y="1980720"/>
            <a:ext cx="2057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95120" y="3200040"/>
            <a:ext cx="7621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77120" y="49528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00800" y="26668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istributed Data M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6765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-Tier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7339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Enterprise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533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53341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E30-3D37-4E54-BD54-47D1EEF614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A3E5F-8351-49CE-83B2-924952DF4F3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03T06:58:27Z</dcterms:modified>
  <cp:revision>200</cp:revision>
  <dc:subject/>
  <dc:title>No Slide Title</dc:title>
</cp:coreProperties>
</file>