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414-E141-4F52-A02C-6DF1BE2D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6E7-B7FA-4DD8-8D3C-63EE0FFC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B5E-3E1C-49F6-B2B2-0DF0105E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433-B1BB-4661-A69F-0AACFA96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7CAE-BD50-49D4-AE66-F43A6220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AC22-0AF0-4203-9E18-0A224AAA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42A0-CE8B-44BC-9C8F-A10BC769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8BBC-C77E-46C8-A78F-36A4BACE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FD10-A036-4B0C-BCCE-6DA3373D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D6C0-AD28-4A80-B77B-839DB550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6FEA-E839-4539-80DB-01CC1C5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4E4-85BC-42AA-B4B0-D4A605A8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553B-9EB9-4F0F-92EC-16D726F9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E9AC-69A3-4BE1-9DCB-165D29BB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190C-5FB6-410C-B8A4-F8924295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ED55-C6A6-41A4-8DEC-8A5749A0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0685-AF2D-46D7-810B-840182B1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94E-C1DC-409B-B95E-77F9370F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343-224D-423F-BE78-9745E096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767-D38B-465A-BE93-7356B591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461-208C-4696-AA41-2EA5F3CE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2D2-D6CC-460C-83CC-CFD8D11D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1BD-8DFD-402A-B7AD-4481BAC4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01F-E07D-4615-A246-5E4629B6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5238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A7F6-A6E6-4D45-A201-91B0B367EF6B}" type="datetime3"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FA60-7E03-4D48-9836-A627B23CA1D9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F679-4AC7-4A97-AA5B-6964C96C72B5}" type="datetime3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530F-4F9D-4295-9ADE-ED599E11AE13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2320" y="65530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8816-B73C-4837-B829-9A449C9B084B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Data Mining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Concepts and Techniqu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— Slides for Textbook —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— Chapter 1 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iawei Han and Micheline Ka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lligent Database Systems Research L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hool of Computing Sci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imon Fraser University, C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72D-5C00-4F50-8941-7193C2EAD6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DDF93-F400-4C84-9479-782487141A3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ere are the data sources for analys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dit card transactions, loyalty cards, discount coupons, customer complaint calls, plus (public) lifestyle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 clusters of “model” customers who share the same characteristics: interest, income level, spending habit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termine customer purchasing pattern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version of single to a joint bank account: marriag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ross-marke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s/co-relations between product s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 based on the association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978-55C8-4385-B682-A8A91D13B2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A9C90-5B0A-4193-9929-107CBAD3354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ustomer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can tell you what types of customers buy what products (clustering or classific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dentifying custom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dentifying the best products for different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prediction to find what factors will attract new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vides summary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various multidimensional summary re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tatistical summary information (data central tendency and vari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FE7-EB64-4240-AFD4-E975CC87C1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5665E-D625-4A14-BB31-9B803200388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rporate Analysis and Risk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nance planning and asset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sh flow analysis and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tingent claim analysis to evaluate asse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oss-sectional and time series analysis (financial-ratio, trend analysi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ource pla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ummarize and compare the resources and spen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mpet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onitor competitors and market direc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roup customers into classes and a class-based pricing 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t pricing strategy in a highly competitiv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1E1-1A95-473E-9336-3BB937B204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A2D43-1AA1-4C88-80BF-42EC78E601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idely used in health care, retail, credit card services, telecommunications (phone card fraud)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historical data to build models of fraudulent behavior and use data mining to help identify similar inst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uto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a group of people who stage accidents to collect on insu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ney launde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suspicious money transactions (US Treasury's Financial Crimes Enforcement Network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edical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professional patients and ring of doctors and ring of re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673-25B9-4F84-9C45-B4C53C76D1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4C110-7547-4927-9DAA-CB092E222D9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inappropriate medical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stralian Health Insurance Commission identifies that in many cases blanket screening tests were requested  (save Australian $1m/yr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telephone frau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lephone call model: destination of the call, duration, time of day or week.  Analyze patterns that deviate from an expected nor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British Telecom identified discrete groups of callers with frequent intra-group calls, especially mobile phones, and broke a multimillion dollar frau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alysts estimate that 38% of retail shrink is due to dishonest employ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077-092F-4655-AA37-D9D2484227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11A02-BB8D-478E-B980-1FB7AD14B4E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Advanced Scout analyzed NBA game statistics (shots blocked, assists, and fouls) to gain competitive advantage for New York Knicks and Miami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str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JPL and the Palomar Observatory discovered 22 quasars with the help of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net Web Surf-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Surf-Aid applies data mining algorithms to Web access logs for market-related pages to discover customer preference and behavior pages, analyzing effectiveness of Web marketing, improving Web site organization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96D-4F41-4BB4-B8A1-96C90CFB62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E7432-06FB-4EEC-90C4-543DCE66DDA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KDD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the core of knowledge discovery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81680" y="15998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05520" y="26668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37335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56272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63868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63244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150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958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760" y="4876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6240" y="54100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6248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11480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572000"/>
            <a:ext cx="685800" cy="6858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429000"/>
            <a:ext cx="457200" cy="4572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981080"/>
            <a:ext cx="75960" cy="609840"/>
          </a:xfrm>
          <a:prstGeom prst="rect">
            <a:avLst/>
          </a:pr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209680"/>
            <a:ext cx="7632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133720"/>
            <a:ext cx="76320" cy="45720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362320"/>
            <a:ext cx="76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685800" cy="7596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362320"/>
            <a:ext cx="152280" cy="22860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086600" y="990720"/>
            <a:ext cx="17431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nowledg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2511000" y="3276720"/>
            <a:ext cx="22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Task-relevant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4052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5280" y="25909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굴림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4560" y="16765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attern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057400"/>
            <a:ext cx="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962160" y="525780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4343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5257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6000" y="60958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05120" y="5409720"/>
            <a:ext cx="38088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54100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657600" y="41911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2ED-9D29-4448-98E8-FD728A6862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2B999-38D6-43EF-97A9-B5A38798E58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teps of a KDD Proces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Learning the application domai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levant prior knowledge and goals of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ating a target data set: data se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clea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and preprocessing: (may take 60% of effort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reduction and transfor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ind useful features, dimensionality/variable reduction, invariant re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functions of data min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mmarization, classification, regression, association, cluster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the mining algorithm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mi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search for patterns of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Pattern evaluation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visualization, transformation, removing redundant pattern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6C3-DCA3-4E31-B9F5-DE8671DB1F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42E73-A98C-44BD-B880-3EC81C2394C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Business Intellige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5029200"/>
          </a:xfrm>
          <a:prstGeom prst="flowChartExtra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2578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4956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7339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95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352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960" y="1509840"/>
            <a:ext cx="191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Increasing pot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to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0440" y="19558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End 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4400" y="2946240"/>
            <a:ext cx="9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3320" y="3784680"/>
            <a:ext cx="8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03600" y="5689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3960" y="2057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ec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8680" y="299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7440" y="33526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Visualization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1440" y="37720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M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2360" y="40384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nformation Disco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572000"/>
            <a:ext cx="1889280" cy="36828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Expl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7280" y="55627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OLAP, M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1240" y="48006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Statistical Analysis, Querying an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480" y="52578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Warehouses / Data M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1680" y="586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600" y="609588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Paper, Files, Information Providers, Database Systems, OL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477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31A-A69A-4D1C-91CB-6D57AC8D4D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BA7AC-F28E-435B-92D0-715265EAEEC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rchitecture of a Typical Data Mining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617220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48640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5334120"/>
            <a:ext cx="1295640" cy="30456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5627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 &amp; 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579132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343400"/>
            <a:ext cx="3504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343400"/>
            <a:ext cx="2667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or data warehous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505320"/>
            <a:ext cx="35053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666880"/>
            <a:ext cx="35049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752480"/>
            <a:ext cx="365760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9718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00400"/>
            <a:ext cx="99072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124080"/>
            <a:ext cx="914400" cy="838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9718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098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nowledge-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3E6-BCFA-4E9F-B155-2653D6CC18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63F18-FD63-4EFF-96B8-FEC1D5BD06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is work on this set of slides started with my (Han’s) tutorial for UCLA Extension course in February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r.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Hongjun 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from Hong Kong Univ. of Science and Technology taught jointly with me a Data Mining Summer Course in Shanghai, China in July 1998.  He has contributed many excellent slides to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ome graduate students have contributed many new slides in the following years.  Notable contributors include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Eugene Belchev, Jian Pe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, an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Osmar R. Zaia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now teaching in Univ. of Alber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143-F7BE-4188-877C-DD3237DEAE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6D2FC-9E3B-420F-B752-0B2CEE45926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la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ware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ansac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dvanced DB and information repos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-oriented and object-relation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pati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ime-series data and tempor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xt databases and multimedia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Heterogeneous and legacy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56E-3E56-4113-A441-D83C704BA0D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249E1-21C4-4A8F-992E-30DD59A0055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649620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oncept description: Characterization and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eneralize, summarize, and contrast data characteristics, e.g., dry vs. wet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ssoc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rrelation and causa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lti-dimensional vs. single-dimensional assoc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ge(X, “20..29”) ^ income(X, “20..29K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buys(X, “PC”) [support = 2%, confidence = 60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ntains(T, “computer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contains(x, “software”) [1%, 75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16E-2390-401D-9CBE-D83081C9F9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8A60C-DE7A-45A6-9C46-FDE35781657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assification and Predi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ing models (functions) that describe and distinguish classes or concepts for future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.g., classify countries based on climate, or classify cars based on gas mile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sentation: decision-tree, classification rule, neural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: Predict some unknown or missing numerical valu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ust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 label is unknown: Group data to form new classes, e.g., cluster houses to find distribution patt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ustering based on the principle: maximizing the intra-class similarity and minimizing the interclass simi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D14-0AD8-469E-876C-70CFD5B7AE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2C595-EE5D-4A9F-A227-6AE9AFCF6E4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utli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Outlier: a data object that does not comply with the general behavior of the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t can be considered as noise or exception but is quite useful in fraud detection, rare events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end and evolution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rend and deviation:  regression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quential pattern mining, periodic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imilarity-based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ther pattern-directed or statistical analy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721-1C42-4A6B-85C6-94AE85B8E9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89B73-7DB3-4FEA-B2B8-978BA520D30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re All the “Discovered” Patterns Interest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data mining system/query may generate thousands of patterns, not all of them are interes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ggested approach: Human-centered, query-based, focused m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nterestingness measur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A pattern is 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  <a:ea typeface="굴림"/>
              </a:rPr>
              <a:t>interes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if it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easily underst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by huma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alid on new or test d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with some degree of certaint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otentially usefu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novel, or validates some hypo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at a user seeks to confir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 vs. subjective interestingness measur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statistics and structures of patterns, e.g., support, confid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u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user’s belief in the data, e.g., unexpectedness, novelty, actionability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F84-0AC8-4079-8484-6521A69ED8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8E2A1-20E6-4B3F-A43E-DB8E26832D2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an We Find All and Only Interesting Patter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Find all the interesting patterns: Complet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 vs. classification vs. clu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earch for only interesting patterns: Optim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roa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rst general all the patterns and then filter out the uninteresting 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enerate only the interesting patterns—mining query optim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D92-69CA-4FC4-98BE-1E9270BE8B3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FA27A-517C-4C07-994E-52B2E66F21B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4678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onfluence of Multiple Disciplin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3429000"/>
            <a:ext cx="2209680" cy="9144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1905120"/>
            <a:ext cx="198108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257800"/>
            <a:ext cx="198144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198108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666880"/>
            <a:ext cx="12956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666880"/>
            <a:ext cx="114300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464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028840" y="4419720"/>
            <a:ext cx="15238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4419720"/>
            <a:ext cx="16002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C6D-7156-4F08-A7E4-91CA6A315A1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4D8CB-3FC2-4000-8529-F46326323B5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lassification Sche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neral fun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scriptive data m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edictive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ifferent views, different class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databases to be m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knowledge to be discov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techniques u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applications adap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C0C-C3F5-4A47-B465-6ABBC2694B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F5FA7-31DF-467D-8F1C-A75DC560A24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Multi-Dimensional View of Data Mining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s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, transactional, object-oriented, object-relational, active, spatial, time-series, text, multi-media, heterogeneous, legacy, WWW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Knowledge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ation, discrimination, association, classification, clustering, trend, deviation and outlier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ultiple/integrated functions and mining at multipl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chniques uti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-oriented, data warehouse (OLAP), machine learning, statistics, visualization, neural networ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pplications ada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tail, telecommunication, banking, fraud analysis, DNA mining, stock market analysis, Web mining, Weblog analys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10E-9706-4CE8-A454-754FD810F4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0D867-2B11-4477-A401-A5690023278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LAP Mining: An Integration of Data Mining and Data Warehou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systems, DBMS, Data warehouse systems coup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o coupling, loose-coupling, semi-tight-coupling, tight-coup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mining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ining and OLAP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multi-level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ecessity of mining knowledge and patterns at different levels of abstraction by drilling/rolling, pivoting, slicing/dicing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ultiple mining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ed classification, first clustering and then assoc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061-A547-427A-ADE4-14FB5A9B82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C0682-079A-4C3E-9DC9-7D99098EF95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1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459-00.3 Course Schedu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. Introduction {W1:L2, 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2. Data warehousing and OLAP technology for data mining {W2:L1-3, W3:L1-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 1 distribution (SQLServer7.0+ DBMiner2.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3. Data preprocessing {W3:L3, W4: L1-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4. Data mining primitives, languages and system architectures  {W4: L3, W5: L1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1 due, homework #2 distribu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5. Concept description: Characterization and comparison  {W5: L2, L3, W6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6:L1 Thanksgiving D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6. Mining association rules in large databases  {W6: L3, W7: L1-3, W8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{W8: L2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7. Classification and prediction {W8:L3, W9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8. Clustering analysis  {W10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0: L3 Homework #2 d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9. Mining complex types of data {W11: L2-L3, W12: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1:L1 Remembrance Day, W12:L3 Course project d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0. Data mining applications and trends in data mining {W13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Final Exam (W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B89-4CED-46C3-A495-DFA896CD1B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D1270-00A1-408F-9A88-407DC8A86DC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n OLAM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495680"/>
            <a:ext cx="685800" cy="22860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41148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1911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886200"/>
            <a:ext cx="11430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647712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9132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5638680"/>
            <a:ext cx="1295640" cy="3049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867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648320"/>
            <a:ext cx="13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Meta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MD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24280" y="4343040"/>
            <a:ext cx="83844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16765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5053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362320" y="3657600"/>
            <a:ext cx="9144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360" y="3809880"/>
            <a:ext cx="106668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76920" y="3657600"/>
            <a:ext cx="60948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952880" y="36572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4382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7432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1676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User GU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6680" y="31240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Cub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5181480"/>
            <a:ext cx="5715000" cy="7632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38280" y="464796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495320" y="48006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1814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6248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1722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1480" y="58672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1814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2057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OLAP/OL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3886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D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56272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Reposi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83808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77120" y="1142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&amp;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6095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95880" y="3657600"/>
            <a:ext cx="2286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FEE-B477-4631-9C6C-CB99323AD75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25D33-B515-4CD8-8E79-5EE626FA34F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ining methodology and user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different kinds of knowledge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at multiple levels of abs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corporation of backgroun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query languages and ad-hoc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ression and visualization of data mining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noise and incomplet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: the interestingness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erformance and sca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fficiency and scalability of data mining algorith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rallel, distributed and incremental mining meth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ED6-4AF4-4AB6-AA44-7569E3A4D34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5FC2C-4CE0-4A76-B06B-96309A2BCB3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ing to the diversity of data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relational and complex type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information from heterogeneous databases and global information systems (WW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ed to applications and social imp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lication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omain-specific data mining to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cess control and decision 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the discovered knowledge with existing knowledge: A knowledge fusion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tection of data security, integrity, and priv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535-F97A-4FFF-8415-F88DA48D98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4C9FE-47B3-47B9-A480-034BE92D426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discovering interesting patterns from large amount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natural evolution of database technology, in great demand, with wid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KDD process includes data cleaning, data integration, data selection, transformation, data mining, pattern evaluation,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can be performed in a variety of information repos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: characterization, discrimination, association, classification, clustering, outlier and trend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EA8-3175-44C0-A8E8-0330DD0BE4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41CE1-6CAF-4B87-A8C7-4924DFDA844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Brief History of Data Mining Socie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89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JCAI Workshop on Knowledge Discovery in Databases (Piatetsky-Shapi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 in Databases (G. Piatetsky-Shapiro and W. Frawley, 199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1-1994 Workshops on Knowledge Discovery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Advances in Knowledge Discovery and Data Mining (U. Fayyad, G. Piatetsky-Shapiro, P. Smyth, and R. Uthurusamy, 199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5-1998 International Conferences on Knowledge Discovery in Databases and Data Mining (KDD’95-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ournal of Data Mining and Knowledge Discovery (199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8 ACM SIGKDD, SIGKDD’1999-2001 conferences, and SIGKDD Explo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re conferences o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PAKDD, PKDD, SIAM-Data Mining, (IEEE) ICDM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929-B087-4B50-A28C-8B50556997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7C451-C1D2-43CA-9482-0EB6C42FA4C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Referenc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mining and KDD (SIGKDD member CD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KDD, and others, such as PKDD, PAKDD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: Data Mining and Knowledge Discove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 field (SIGMOD member CD 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ACM-SIGMOD, ACM-PODS, VLDB, ICDE, EDBT, DASFA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CM-TODS, J. ACM, IEEE-TKDE, JI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I and Machine Learn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Machine learning, AAAI, IJCA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Machine Learning, Artificial Intellig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tatistic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Joint Stat. Meeting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nnals of statist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isualiza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CH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IEEE Trans. visualization and computer graph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A3E-31AD-43D8-BC38-A8662133902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283C0-3EE3-4151-93F3-0A06B9873F3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99760" y="609480"/>
            <a:ext cx="7155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U. M. Fayyad, G. Piatetsky-Shapiro, P. Smyth, and R. Uthurusamy. Advances in Knowledge Discovery and Data Mining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. Han and M. Kamber. Data Mining: Concepts and Techniques. Morgan Kaufmann, 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T. Imielinski and H. Mannila. A database perspective on knowledge discovery. Communications of ACM, 39:58-64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, U. Fayyad, and P. Smith. From data mining to knowledge discovery: An overview. In U.M. Fayyad, et al. (eds.), Advances in Knowledge Discovery and Data Mining, 1-35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 and W. J. Frawley. Knowledge Discovery in Databases. AAAI/MIT Press, 199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0D2-0794-4F56-B732-B176E7E1BA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BB2E7-9077-4DA0-9507-B91AA4EE8E2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  <a:ea typeface="굴림"/>
              </a:rPr>
              <a:t>Thank you 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20F-332F-4D73-B048-9207BFD13D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0D664-8F82-4EBF-A255-0C23A22A0F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843 Course Arran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st week: full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2nd to 11th week: 1/2 graduate student + 1/2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2-13th week: full student graduate project pres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Course evalua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esentation (quality of presentation slides 7% + presentation 8%) 1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exam 3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(presentation 5% + report 25%)  total 3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 (2): 2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Deadline for the selection of your work in the semeste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course presentation: at the end of the 1st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the course project: at the end of the 3rd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proposal due date: at the end of the 4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due dates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due date: end of the seme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Your presentation slides due date: one day before the 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date: end of the 8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23A-F89C-444A-A0E0-31FD6335C1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0C83E-D5D8-4AC4-909B-FD5EF2DA3FB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the Set of Slid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utorial sections (MS PowerPoint fi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/dm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 conference presentation slides (.pp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earch papers, DBMiner system, and other related inform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BD2-2373-415B-83DA-D1E5074AC3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A01F8-902A-4DB7-870D-4554F45EA6B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Chapter 1.  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otivation: Why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e all the patterns interest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96A-D622-486F-A694-D81FE1AD06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E2CA5-1287-4111-81BE-524B539FB2E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otivation:  “Necessity is the Mother of Invention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explosion pr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tomated data collection tools and mature database technology lead to tremendous amounts of data stored in databases, data warehouses and other information repositories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e are drowning in data, but starving for knowledge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olution: Data warehousing and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Data warehousing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knowledge (rules, regularities,  patterns, constraints) from data in 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C75-E378-4EAE-BA75-462241F597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082AC-8955-4D11-A4FC-D8444ADE79B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Evolution of Database Technology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(See Fig. 1.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196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collection, database creation, IMS and network DB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7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 data model, relational DBMS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8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DBMS, advanced data models (extended-relational, OO, deductive, etc.) and application-oriented DBMS (spatial, scientific, engineering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90s—200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data warehousing, multimedia databases, and Web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B27-DB54-4D08-A14E-B2968FEEA3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8AE3C-9243-4643-A438-8599900E61A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8640" y="699840"/>
            <a:ext cx="75070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(knowledge discovery in databases):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n-trivial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mplici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eviously unknow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otentially useful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formation or patterns from data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ternative names and their “inside stories”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misnom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(mining) in databases (KDD), knowledge extraction, data/pattern analysis, data archeology, data dredging, information harvesting, business intelligenc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not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(Deductive) query processing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ert systems or small ML/statistical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7560" cy="117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8880" y="4932360"/>
            <a:ext cx="19051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9E2-1136-4934-B925-EBCE05FD5B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4992E-465B-4B70-9096-F3F42A30546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Data Mining? — Potential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 analysis and decision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, customer relation management,  market basket analysis, cross selling, market se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isk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orecasting, customer retention, improved underwriting, quality control, competitiv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Text mining (news group, email, documents) and Web analy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87D-17B2-45A3-8073-ABA294DD67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DC984-405A-4DCD-A58C-763A63A987E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22:01:55Z</dcterms:created>
  <dc:creator>Jiawei Han</dc:creator>
  <dc:description/>
  <dc:language>en-US</dc:language>
  <cp:lastModifiedBy>Jong Soo Park</cp:lastModifiedBy>
  <cp:lastPrinted>2000-06-01T21:00:25Z</cp:lastPrinted>
  <dcterms:modified xsi:type="dcterms:W3CDTF">2002-05-14T02:30:51Z</dcterms:modified>
  <cp:revision>167</cp:revision>
  <dc:subject/>
  <dc:title>Mining Frequent Patterns Without Candidate Generation</dc:title>
</cp:coreProperties>
</file>