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F7AB-0F7B-4820-B17C-1039EAFC0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97F6-4090-453A-B05E-BC47BAFA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5143-2A47-4B0C-9508-B3C031691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4FDC-FE65-4E7D-8190-38369B43E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8BAF-1109-4BCB-B113-B1E38F48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E3B8-466B-4A76-BA2C-EEBE86E9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88C6-B9E6-4CCE-A147-FED544B1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DB63-3847-4D00-80E9-C25D624B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1656-EB7B-4F90-B3C4-57EC5AE3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0730-7807-4FC0-81FA-2D974CEC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74D9-B5D0-459E-B0BB-6F9523C2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F2DC-4EE2-4553-BDC7-E4062FBD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2967-585F-4379-B587-E2EB4EE3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D91E-E3F3-440C-977B-EF16A968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5026-3DFE-4F68-B923-A82178A3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4125-E48B-4EE1-A949-CD0D7B378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19BC-D14B-4BA5-912E-3FA56DB5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3B1F-8689-4DF5-94B7-CE6ADA6C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1CD9-D6DF-4539-955C-7FB8C58B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C5D2-B32A-48E5-81D4-527AB571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2644-DDA7-4E51-9FA9-E45EE8A0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B0CE-168D-4FBC-88AA-04E9EDA3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045D-EE79-4A1C-BB28-4BBB4F0A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6E18-C3EB-4D98-B471-7FB47D1D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D319-86FA-4846-89D8-4B7FC7B036A7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0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E039-2FBF-4AE8-9C29-E828A572FA01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4672-3F13-490C-A81C-8086ED66C248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0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4F15-4A08-4CA0-98F7-ECB7A7E34D50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5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의 추출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,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가공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,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로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ETT)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D3E7-3E07-4CE1-A9A2-84CB347CB33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4FF91D-ED2F-4FFE-9881-A2706DB9688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중요성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의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생명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있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정확하고 신속해야 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어려운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표준화된 솔루션이 없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가 많고 하드웨어가 열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질이 낮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8076-6E4D-47D2-A59C-6C9B369311E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A31595-749A-4519-9964-6EA400336AC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운영계 시스템과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를 동시에 구축할 경우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T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보통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운영계 시스템 구축 후에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잘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동시에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많은 시간과 경비를 절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타 데이터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공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계 시스템에서 필요한 장표를 만드는 노력을 대폭 절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B456-AF20-481A-8BD2-B7AB755D236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F35FAC-B763-4CD4-ACA9-12117C6B77E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K*Loade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오프라인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으로 데이터 웨어하우스 서버에 있는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AM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파일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로 신속하게 로드하는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8216-B775-4A3F-AD6C-57FF4AC5753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DF3AA0-AB94-45B3-9F5D-7E94EE48FC5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학적부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지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10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년간의 졸업생의 성적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로 변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고려 사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법론 연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CEB1-21C6-433C-AF6B-7EE9091B669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A7774C-0679-4BE2-A211-9242E0A0202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1. ET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개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서버와 다른 별도의 서버에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의 데이터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=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추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xtraction)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ansformation)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송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ansportation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약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TT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방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의 종류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추출 주기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양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로딩 속도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의 질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과거 데이터의 형식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사용자의 요구 조건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의 역할 등에 좌우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ECC9-2D69-48F2-AF98-18F54B3B1D1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F37462-8ECA-40F2-BBE3-6EF31639E49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T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형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필요한 최종 테이블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실 테이블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act tab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을 생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차원 테이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imension tab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형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실 테이블과 요약 테이블을 소스 시스템에서 생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의 로그 파일을 분석하여 사실 테이블과 요약 테이블을 작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34E0-A1E2-455F-AB91-2925CFD837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0BF89A-0698-4464-B941-6C4ACC00A65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초기 데이터와 주기적 데이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과거 수년간의 데이터를 보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초기 데이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itial dat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테이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agnetic Tape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형태로 보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cord layout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형식을 지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전산 시스템에서 중요한 것은 데이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기적 데이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일 단위 또는 월 단위로 소스 시스템에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넘어오는 데이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가 많으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ff line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작으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45C4-0D07-48A0-9E1A-4640BA1F6D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CA5C85-00FA-4219-9C60-D04124A976B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의 변환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Transformation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에서 추출한 데이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사실 테이블이 특정한 포맷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의 요구가 복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의 코드가 일치하지 않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DB(Hierarchical database)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조 변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BM IMS/DB : H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DB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DB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근간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올릴 때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주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0E0C-7093-4FFC-8B1E-7A6C93852F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642CB4-8E34-4E6F-8EFC-990836E9FFB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의 정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ata cleans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들어가는 데이터는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100%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정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의 차원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D(dimension ID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해당하는 값이 차원 테이블과 상이할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에 비정상적인 값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AM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을 이용한 데이터 정제 작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SD(Operational Data Store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이용한 정제 작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가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변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제 작업을 용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의 요구 조건의 변화에 신속 대응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실 테이블의 문제에 신속 복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9F5D-1212-489B-96E0-7B39832D22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83FB6B-CB9F-4152-A6B6-9E08C8EB3C2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T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방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ff Lin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오프라인 방식의 개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과 순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T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의 사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agnetic tape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시 주의 사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nlin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온라인 추출 방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pen 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오라클 분산 옵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racle distributed op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3974-A94D-4CFF-80E2-2BB78A8B32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5A1BAA-02AD-4DF8-AAB9-4E6526A2037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T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방식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디스크 공유 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al-time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를 원하는 은행에서 많이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eferred I/O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또는 로그 파일 방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에서 특정한 데이터가 바뀌면 로그 파일을 만들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주기적으로 데이터를 가져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C4E0-4572-47AB-96E2-6F3BE81412E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9A8273-0F7D-4D2E-A40C-79587EBFB2D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추출 데이터의 정확성 보장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보장하는 방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정 필드의 값을 합산 후 대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추출과 로드시 에러가 생길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에러의 원인을 밝히고 교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8A55-CA88-4878-AFB9-85A54F5035A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76B8BC-FD38-4DD9-8686-E7541E475A8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4-16T05:27:39Z</dcterms:modified>
  <cp:revision>227</cp:revision>
  <dc:subject/>
  <dc:title>제5장 데이터의 추출, 가공, 로드(ETT)</dc:title>
</cp:coreProperties>
</file>