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2A4-6EEC-4B2C-9F60-FCE8DB7F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5EB0-0F84-4896-8606-9C131B0C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C75-662E-44FD-9B33-04121B35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F692-45EE-40FA-9F69-B8C0F440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0E63-1572-4634-BE9D-1F5AD024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A74E-9FA5-4923-A01D-5D5CF404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833A-9587-40C7-B8B1-960EE2B3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1F30-FBF3-4098-8DDF-EC0CB97B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7BF6-F3D9-4CDB-8A77-84450E06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BB7D-BCE3-415C-9126-67252782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68AF-D9B2-46F2-89C4-EFD3AF25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599-8EB0-458F-8EF8-B326978F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3E77-FBC4-41FF-8581-06DE1F74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2FC9-E094-4FB8-A62F-BBD6F5C5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A938-0733-442C-BDA4-E72E78A6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D9BC-D940-47BB-B3CB-2C755702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14D3-F765-4C22-841C-1422C2C6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9707-8EAC-4896-873B-11ACFD7A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718F-6A80-4510-986A-BA8C25D1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D5A-BFF2-4F9B-BE75-D5F33290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AF5-3A54-4AC7-A3D3-43D71A22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170-F411-44A9-BE94-80186025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EDEB-1DE6-44C7-A40A-70EBFF96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FF39-2F4E-4B36-84BF-275F16A1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96C3-6016-429E-A4F6-7858890A434D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8AB8-6E56-46D9-9DA5-C9CB1447DAB6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57F6-7ED0-4FA9-A119-2DBB89627AE7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1EE7-1130-443B-896C-A70A2CB5DB7A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c.org/" TargetMode="External"/><Relationship Id="rId2" Type="http://schemas.openxmlformats.org/officeDocument/2006/relationships/hyperlink" Target="http://www.toc.org/" TargetMode="External"/><Relationship Id="rId3" Type="http://schemas.openxmlformats.org/officeDocument/2006/relationships/hyperlink" Target="http://www.toc.org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7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하드웨어와 데이터 웨어하우스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A515-3977-4B4E-93D4-3EDEF1A8A19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F6CE0-AC11-4B9A-9036-6A173E6797F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는 데이터베이스의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한 하드웨어에만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을 포함하는 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방형 컴퓨터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FD3-8F36-4BB5-88FB-9FA45369AE1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9025A-C698-47E3-A57B-F37AC7B73A1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titio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테이블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(tupl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수억 건 이상 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과 인덱스 파티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atic partition and hash part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ar que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적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최종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꼭 필요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77B3-4099-4B04-92BB-5D3B9CA00D7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11134-2F36-4624-B892-2088DFC5746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map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빠르고 인덱스 테이블도 작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allel Load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한꺼번에 많은 데이터를 로딩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rtable tabl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시스템의 테이블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에서 바로 데이터베이스에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able Table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데이터베이스에 있는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911-B9A4-4EF1-9EED-2C877289E7B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08980-E053-41CD-BAFF-7DCD5DB00F6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PC-D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벤치 마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PC(Transaction Processing Performance Counc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/>
              </a:rPr>
              <a:t>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2"/>
              </a:rPr>
              <a:t>tp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3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TPC-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represents a broad range of decision support (DS) applications that require complex, long running queries against large complex data structures. (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Obsolete as of 4/6/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4C28-2A34-4F88-9B44-109A6AFB2A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B89F6-82C0-47BE-A530-F560B17F234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P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C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n on-line transaction processing benchmark, Version 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H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n ad-hoc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 business reporting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W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 transactional web e-Commerce bench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44E0-8CE1-48AE-9A18-D97FA7A6CF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D4007-8113-400F-AF44-BFF7BE0BD27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하드웨어와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-D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벤치마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CF3-C839-4945-876B-0230DC5FBB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602E5-6795-498A-981A-170A4C678BC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하드웨어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강력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cal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안정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6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i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C19-85C3-4CAD-938E-040A9765C4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AB6C8-BEAF-4700-AD2A-512DF832CCF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MP(Symmetric Multi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emo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은 서로 독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에 있는 프로그램과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red bu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통해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공유 버스에서 충돌 현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결방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rossbar switch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하기 편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준에서 로드 분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액세스 시에 충돌이 일어나지 않는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FD8E-D9AD-4D21-9FC4-BAD72AB5D1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DD2F9-30C1-42DB-A67C-DF6D71E9E78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PP(Massively Parallel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일반적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PU-Memory-Dis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한조가 되어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마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베이스가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노드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럼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노드로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node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sh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ta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39F7-A537-49BC-8E52-94D54E0F9D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01988-0B46-4F96-A832-741626788F1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지역성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locality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액세스하는 것은 빠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mote disk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액세스는 느리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지역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노드간 데이터의 분산 정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좋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컬 디스크에 있는 데이터를 노드 내부에서 액세스하는 경우가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격 디스크의 데이터를 자주 액세스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내용과 액세스 형태를 고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C5F-C897-45E7-A5C3-0D3D65699A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59B5B-D892-4B28-A951-357E8244A9C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NUMA(Non-Uniform Memory Acces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UMA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메모리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그램과 데이터는 동일한 주소 환경에 존재하므로 지역성이 매우 강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나 데이터베이스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럼 하나만 존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6391-5263-433C-A17D-57CE25F944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53019-D6A5-432B-907D-3578591DA14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를 도입할 때 고려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 server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의 기능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의 아키텍처만 보고 속단 금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사의 데이터 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pdat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 patter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을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하드웨어를 비교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 선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요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대한 면밀한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안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6554-3BEA-4EE5-B720-FABE76CB20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62253-6CC4-4E09-949D-B17080CB70A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의 용량 산정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iz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3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14% +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약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통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시 시간이 많이 걸리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서 주기적으로 일어나는 중요한 프로세서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C7B-5F23-4B43-8327-575E991766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B373B-088A-4C9D-8249-4BFE12A15D7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14T05:22:52Z</dcterms:modified>
  <cp:revision>237</cp:revision>
  <dc:subject/>
  <dc:title>제6장 데이터 웨어하우스의 관리</dc:title>
</cp:coreProperties>
</file>